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9FDA-0DED-43E6-9DC2-2B383E116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22E5-ED8F-406F-9CAF-D7A42B19E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0FF3-D571-4BFF-8E96-794807E5C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D8D0-E299-4E5D-AD21-9970B7D52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1964-855B-4CC8-BA3D-5E82BA834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6EA4-FF32-4276-92A5-09FC74C13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5F47-D379-4CF5-8BD3-BD17ACF2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6EED-4179-4FC4-B336-5867A7F82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7A10-8D43-420B-9624-8DB53A40E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70E3-E097-487F-9173-84790E11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BB39-8C2B-4767-BADB-3380690A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2227-12BC-4145-AA6F-4A9962A4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7587-EDC0-4156-B14C-351536B7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3B97-F928-42D6-947E-DD1CFE4F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7471-76CD-47B9-A506-A60EBC72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A8F7-94E2-44F2-987B-85B4064C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5860-9238-4BCA-B49B-30EFE6B1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8060-FE74-49AB-AB3F-95443782E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6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9.png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10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8.jpeg"/><Relationship Id="rId1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1389240" y="2666880"/>
            <a:ext cx="6230880" cy="32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、知道单质碳、一氧化碳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主要性质和用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、知道二氧化碳的主要性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和用途，初步学习选取实验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制取气体装置的思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61960" y="1980720"/>
            <a:ext cx="301932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Gulim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27" descr=""/>
          <p:cNvPicPr/>
          <p:nvPr/>
        </p:nvPicPr>
        <p:blipFill>
          <a:blip r:embed="rId1"/>
          <a:stretch/>
        </p:blipFill>
        <p:spPr>
          <a:xfrm>
            <a:off x="0" y="0"/>
            <a:ext cx="592596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174600" y="917640"/>
            <a:ext cx="869328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67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10167"/>
                </a:solidFill>
                <a:latin typeface="Arial"/>
              </a:rPr>
              <a:t>、不能用来鉴别</a:t>
            </a:r>
            <a:r>
              <a:rPr b="1" lang="en-US" sz="2800" spc="-1" strike="noStrike">
                <a:solidFill>
                  <a:srgbClr val="010167"/>
                </a:solidFill>
                <a:latin typeface="Arial"/>
              </a:rPr>
              <a:t>CO</a:t>
            </a:r>
            <a:r>
              <a:rPr b="1" lang="zh-CN" sz="2800" spc="-1" strike="noStrike">
                <a:solidFill>
                  <a:srgbClr val="010167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10167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010167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10167"/>
                </a:solidFill>
                <a:latin typeface="Arial"/>
              </a:rPr>
              <a:t>的方法是（      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通入紫色石蕊试液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入澄清石灰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闻气味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点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203040" y="2193840"/>
            <a:ext cx="8694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67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10167"/>
                </a:solidFill>
                <a:latin typeface="Arial"/>
              </a:rPr>
              <a:t>、如果要除去</a:t>
            </a:r>
            <a:r>
              <a:rPr b="1" lang="en-US" sz="2800" spc="-1" strike="noStrike">
                <a:solidFill>
                  <a:srgbClr val="010167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010167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10167"/>
                </a:solidFill>
                <a:latin typeface="Arial"/>
              </a:rPr>
              <a:t>中少量的</a:t>
            </a:r>
            <a:r>
              <a:rPr b="1" lang="en-US" sz="2800" spc="-1" strike="noStrike">
                <a:solidFill>
                  <a:srgbClr val="010167"/>
                </a:solidFill>
                <a:latin typeface="Arial"/>
              </a:rPr>
              <a:t>CO</a:t>
            </a:r>
            <a:r>
              <a:rPr b="1" lang="zh-CN" sz="2800" spc="-1" strike="noStrike">
                <a:solidFill>
                  <a:srgbClr val="010167"/>
                </a:solidFill>
                <a:latin typeface="Arial"/>
              </a:rPr>
              <a:t>，应该采用的方法是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把混合气体点燃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把混合气体通过灼热的氧化铜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把混合气体通过澄清石灰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把混合气体从一个容器倾倒到另一个容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246240" y="4718160"/>
            <a:ext cx="866592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67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10167"/>
                </a:solidFill>
                <a:latin typeface="Arial"/>
              </a:rPr>
              <a:t>、蛋壳的主要成分是</a:t>
            </a:r>
            <a:r>
              <a:rPr b="1" lang="en-US" sz="2800" spc="-1" strike="noStrike">
                <a:solidFill>
                  <a:srgbClr val="010167"/>
                </a:solidFill>
                <a:latin typeface="Arial"/>
              </a:rPr>
              <a:t>CaCO</a:t>
            </a:r>
            <a:r>
              <a:rPr b="1" lang="en-US" sz="2800" spc="-1" strike="noStrike" baseline="-25000">
                <a:solidFill>
                  <a:srgbClr val="010167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10167"/>
                </a:solidFill>
                <a:latin typeface="Arial"/>
              </a:rPr>
              <a:t>，新鲜鸡蛋会呼出</a:t>
            </a:r>
            <a:r>
              <a:rPr b="1" lang="en-US" sz="2800" spc="-1" strike="noStrike">
                <a:solidFill>
                  <a:srgbClr val="010167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010167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10167"/>
                </a:solidFill>
                <a:latin typeface="Arial"/>
              </a:rPr>
              <a:t>，下列物质能在蛋壳表面形成难溶性固态保护膜，因而可作鸡蛋保鲜剂的是    （       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稀盐酸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水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石灰水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食盐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6415200" y="85896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627120" y="262404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4452840" y="556092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222120" y="231840"/>
            <a:ext cx="180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203040" y="1373040"/>
            <a:ext cx="8577360" cy="313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67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、由于大气中</a:t>
            </a:r>
            <a:r>
              <a:rPr b="1" lang="en-US" sz="2800" spc="-1" strike="noStrike">
                <a:solidFill>
                  <a:srgbClr val="010167"/>
                </a:solidFill>
                <a:latin typeface="黑体"/>
                <a:ea typeface="黑体"/>
              </a:rPr>
              <a:t>CO</a:t>
            </a:r>
            <a:r>
              <a:rPr b="1" lang="en-US" sz="2800" spc="-1" strike="noStrike" baseline="-25000">
                <a:solidFill>
                  <a:srgbClr val="010167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含量的增大，产生</a:t>
            </a:r>
            <a:r>
              <a:rPr b="1" lang="zh-CN" sz="2800" spc="-1" strike="noStrike">
                <a:solidFill>
                  <a:srgbClr val="010167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温室效应</a:t>
            </a:r>
            <a:r>
              <a:rPr b="1" lang="zh-CN" sz="2800" spc="-1" strike="noStrike">
                <a:solidFill>
                  <a:srgbClr val="010167"/>
                </a:solidFill>
                <a:latin typeface="Times New Roman"/>
                <a:ea typeface="黑体"/>
              </a:rPr>
              <a:t>”</a:t>
            </a: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，使地球变暖，海平面升高，陆地面积减小。为了减小大气中</a:t>
            </a:r>
            <a:r>
              <a:rPr b="1" lang="en-US" sz="2800" spc="-1" strike="noStrike">
                <a:solidFill>
                  <a:srgbClr val="010167"/>
                </a:solidFill>
                <a:latin typeface="黑体"/>
                <a:ea typeface="黑体"/>
              </a:rPr>
              <a:t>CO</a:t>
            </a:r>
            <a:r>
              <a:rPr b="1" lang="en-US" sz="2800" spc="-1" strike="noStrike" baseline="-25000">
                <a:solidFill>
                  <a:srgbClr val="010167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的含量，下列措施不可行的是（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植树造林，增加地球表面的绿化面积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用石灰水吸收空气中的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改变能源结构，发展太阳能、核能、水能代替化石燃料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冬天采取集中供热，提高能源利用率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7321680" y="2308320"/>
            <a:ext cx="41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222120" y="231840"/>
            <a:ext cx="180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262080" y="981000"/>
            <a:ext cx="854856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按题意从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N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选择适宜的化学式，填入下列横线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有剧毒的气体：      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使带火星的木条复燃的气体：         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能在空气中燃烧的气体：                 。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空气中含量最多的气体：           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能使澄清石灰水变浑浊的气体：         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密度最小的是            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既有可燃性又有还原性的气体化合物是         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只能用向上排空气法收集的是              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3678120" y="1830240"/>
            <a:ext cx="13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5654520" y="2192400"/>
            <a:ext cx="1414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5067360" y="2738520"/>
            <a:ext cx="1712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5307120" y="3125880"/>
            <a:ext cx="1790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6048360" y="3602160"/>
            <a:ext cx="176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3681360" y="4019400"/>
            <a:ext cx="189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1074600" y="4786200"/>
            <a:ext cx="139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0"/>
          <p:cNvSpPr/>
          <p:nvPr/>
        </p:nvSpPr>
        <p:spPr>
          <a:xfrm>
            <a:off x="5987880" y="5261040"/>
            <a:ext cx="115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222120" y="231840"/>
            <a:ext cx="180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09600" y="81432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67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10167"/>
                </a:solidFill>
                <a:latin typeface="黑体"/>
                <a:ea typeface="黑体"/>
              </a:rPr>
              <a:t>实验室制取</a:t>
            </a:r>
            <a:r>
              <a:rPr b="0" lang="en-US" sz="3200" spc="-1" strike="noStrike">
                <a:solidFill>
                  <a:srgbClr val="010167"/>
                </a:solidFill>
                <a:latin typeface="黑体"/>
                <a:ea typeface="黑体"/>
              </a:rPr>
              <a:t>CO</a:t>
            </a:r>
            <a:r>
              <a:rPr b="0" lang="en-US" sz="3200" spc="-1" strike="noStrike" baseline="-25000">
                <a:solidFill>
                  <a:srgbClr val="010167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10167"/>
                </a:solidFill>
                <a:latin typeface="黑体"/>
                <a:ea typeface="黑体"/>
              </a:rPr>
              <a:t>的原料是</a:t>
            </a:r>
            <a:r>
              <a:rPr b="0" lang="en-US" sz="3200" spc="-1" strike="noStrike">
                <a:solidFill>
                  <a:srgbClr val="010167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10167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67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010167"/>
                </a:solidFill>
                <a:latin typeface="黑体"/>
                <a:ea typeface="黑体"/>
              </a:rPr>
              <a:t>有关化学方程式</a:t>
            </a:r>
            <a:r>
              <a:rPr b="0" lang="en-US" sz="3200" spc="-1" strike="noStrike">
                <a:solidFill>
                  <a:srgbClr val="010167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10167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67"/>
                </a:solidFill>
                <a:latin typeface="黑体"/>
                <a:ea typeface="黑体"/>
              </a:rPr>
              <a:t>3.</a:t>
            </a:r>
            <a:r>
              <a:rPr b="0" lang="zh-CN" sz="3200" spc="-1" strike="noStrike">
                <a:solidFill>
                  <a:srgbClr val="010167"/>
                </a:solidFill>
                <a:latin typeface="黑体"/>
                <a:ea typeface="黑体"/>
              </a:rPr>
              <a:t>收集</a:t>
            </a:r>
            <a:r>
              <a:rPr b="0" lang="en-US" sz="3200" spc="-1" strike="noStrike">
                <a:solidFill>
                  <a:srgbClr val="010167"/>
                </a:solidFill>
                <a:latin typeface="黑体"/>
                <a:ea typeface="黑体"/>
              </a:rPr>
              <a:t>CO</a:t>
            </a:r>
            <a:r>
              <a:rPr b="0" lang="en-US" sz="3200" spc="-1" strike="noStrike" baseline="-25000">
                <a:solidFill>
                  <a:srgbClr val="010167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10167"/>
                </a:solidFill>
                <a:latin typeface="黑体"/>
                <a:ea typeface="黑体"/>
              </a:rPr>
              <a:t>方法及原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10167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67"/>
                </a:solidFill>
                <a:latin typeface="黑体"/>
                <a:ea typeface="黑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068480" y="4875120"/>
          <a:ext cx="7737480" cy="1548000"/>
        </p:xfrm>
        <a:graphic>
          <a:graphicData uri="http://schemas.openxmlformats.org/drawingml/2006/table">
            <a:tbl>
              <a:tblPr/>
              <a:tblGrid>
                <a:gridCol w="1587240"/>
                <a:gridCol w="1455840"/>
                <a:gridCol w="46944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ff"/>
                          </a:solidFill>
                          <a:latin typeface="Verdana"/>
                        </a:rPr>
                        <a:t>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10167"/>
                          </a:solidFill>
                          <a:latin typeface="Verdana"/>
                          <a:ea typeface="黑体"/>
                        </a:rPr>
                        <a:t>检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     </a:t>
                      </a:r>
                      <a:r>
                        <a:rPr b="1" lang="zh-CN" sz="2400" spc="-1" strike="noStrike">
                          <a:solidFill>
                            <a:srgbClr val="010167"/>
                          </a:solidFill>
                          <a:latin typeface="Verdana"/>
                          <a:ea typeface="黑体"/>
                        </a:rPr>
                        <a:t>验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10167"/>
                          </a:solidFill>
                          <a:latin typeface="黑体"/>
                          <a:ea typeface="黑体"/>
                        </a:rPr>
                        <a:t>二氧化碳 </a:t>
                      </a:r>
                      <a:r>
                        <a:rPr b="1" lang="en-US" sz="2800" spc="-1" strike="noStrike">
                          <a:solidFill>
                            <a:srgbClr val="010167"/>
                          </a:solidFill>
                          <a:latin typeface="黑体"/>
                          <a:ea typeface="黑体"/>
                        </a:rPr>
                        <a:t>CO</a:t>
                      </a:r>
                      <a:r>
                        <a:rPr b="1" lang="en-US" sz="2800" spc="-1" strike="noStrike" baseline="-25000">
                          <a:solidFill>
                            <a:srgbClr val="010167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8" name="Text Box 17"/>
          <p:cNvSpPr/>
          <p:nvPr/>
        </p:nvSpPr>
        <p:spPr>
          <a:xfrm>
            <a:off x="2828880" y="5533920"/>
            <a:ext cx="2521080" cy="8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澄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石灰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8"/>
          <p:cNvSpPr/>
          <p:nvPr/>
        </p:nvSpPr>
        <p:spPr>
          <a:xfrm>
            <a:off x="4199040" y="541512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燃烧的木条放在瓶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885960" y="1779480"/>
            <a:ext cx="46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石灰石或者大理石与稀盐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0"/>
          <p:cNvSpPr/>
          <p:nvPr/>
        </p:nvSpPr>
        <p:spPr>
          <a:xfrm>
            <a:off x="1066680" y="2884320"/>
            <a:ext cx="5975640" cy="4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CaC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+2HCI=Ca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I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+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O+C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楷体_GB2312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1"/>
          <p:cNvSpPr/>
          <p:nvPr/>
        </p:nvSpPr>
        <p:spPr>
          <a:xfrm>
            <a:off x="885960" y="409572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向上排空气集气法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密度比空气大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能溶于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192240" y="190440"/>
            <a:ext cx="61322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知识点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的制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260280" y="1555920"/>
          <a:ext cx="8621640" cy="4541760"/>
        </p:xfrm>
        <a:graphic>
          <a:graphicData uri="http://schemas.openxmlformats.org/drawingml/2006/table">
            <a:tbl>
              <a:tblPr/>
              <a:tblGrid>
                <a:gridCol w="1627200"/>
                <a:gridCol w="1639800"/>
                <a:gridCol w="1625760"/>
                <a:gridCol w="1577880"/>
                <a:gridCol w="2151000"/>
              </a:tblGrid>
              <a:tr h="92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10167"/>
                          </a:solidFill>
                          <a:latin typeface="Verdana"/>
                          <a:ea typeface="黑体"/>
                        </a:rPr>
                        <a:t>物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Verdana"/>
                          <a:ea typeface="黑体"/>
                        </a:rPr>
                        <a:t>反应原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10167"/>
                          </a:solidFill>
                          <a:latin typeface="Verdana"/>
                          <a:ea typeface="黑体"/>
                        </a:rPr>
                        <a:t>实验装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10167"/>
                          </a:solidFill>
                          <a:latin typeface="Verdana"/>
                          <a:ea typeface="黑体"/>
                        </a:rPr>
                        <a:t>检验方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10167"/>
                          </a:solidFill>
                          <a:latin typeface="Verdana"/>
                          <a:ea typeface="黑体"/>
                        </a:rPr>
                        <a:t>验满方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10167"/>
                          </a:solidFill>
                          <a:latin typeface="Verdana"/>
                        </a:rPr>
                        <a:t>氧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10167"/>
                          </a:solidFill>
                          <a:latin typeface="Verdana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10167"/>
                          </a:solidFill>
                          <a:latin typeface="Verdana"/>
                        </a:rPr>
                        <a:t>气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黑体"/>
                        </a:rPr>
                        <a:t>排水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黑体"/>
                        </a:rPr>
                        <a:t>排空气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5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10167"/>
                          </a:solidFill>
                          <a:latin typeface="Verdana"/>
                        </a:rPr>
                        <a:t>二氧化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5" name="Text Box 31"/>
          <p:cNvSpPr/>
          <p:nvPr/>
        </p:nvSpPr>
        <p:spPr>
          <a:xfrm>
            <a:off x="237960" y="901800"/>
            <a:ext cx="6600960" cy="64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实验室制法的比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192240" y="190440"/>
            <a:ext cx="61322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知识点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的制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71280" y="932040"/>
          <a:ext cx="8893440" cy="5636880"/>
        </p:xfrm>
        <a:graphic>
          <a:graphicData uri="http://schemas.openxmlformats.org/drawingml/2006/table">
            <a:tbl>
              <a:tblPr/>
              <a:tblGrid>
                <a:gridCol w="528840"/>
                <a:gridCol w="4763880"/>
                <a:gridCol w="1440000"/>
                <a:gridCol w="2160720"/>
              </a:tblGrid>
              <a:tr h="63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10167"/>
                          </a:solidFill>
                          <a:latin typeface="Verdana"/>
                          <a:ea typeface="黑体"/>
                        </a:rPr>
                        <a:t>物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10167"/>
                          </a:solidFill>
                          <a:latin typeface="Verdana"/>
                          <a:ea typeface="黑体"/>
                        </a:rPr>
                        <a:t>               </a:t>
                      </a:r>
                      <a:r>
                        <a:rPr b="1" lang="zh-CN" sz="2400" spc="-1" strike="noStrike">
                          <a:solidFill>
                            <a:srgbClr val="010167"/>
                          </a:solidFill>
                          <a:latin typeface="Verdana"/>
                          <a:ea typeface="黑体"/>
                        </a:rPr>
                        <a:t>反应原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10167"/>
                          </a:solidFill>
                          <a:latin typeface="Verdana"/>
                          <a:ea typeface="黑体"/>
                        </a:rPr>
                        <a:t>实验装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10167"/>
                          </a:solidFill>
                          <a:latin typeface="Verdana"/>
                          <a:ea typeface="黑体"/>
                        </a:rPr>
                        <a:t>检验方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010167"/>
                          </a:solidFill>
                          <a:latin typeface="Verdana"/>
                        </a:rPr>
                        <a:t>氧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10167"/>
                          </a:solidFill>
                          <a:latin typeface="Verdana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010167"/>
                          </a:solidFill>
                          <a:latin typeface="Verdana"/>
                        </a:rPr>
                        <a:t>气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nO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== 2 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O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2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固液不加热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黑体"/>
                        </a:rPr>
                        <a:t>用带火星的木条伸入集气瓶中，带火星的木条复燃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7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KMnO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4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= K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nO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+MnO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2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O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2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固、固加热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6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nO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KClO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3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= 2KCl + 3 O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2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 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固、固体加热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10167"/>
                          </a:solidFill>
                          <a:latin typeface="Verdana"/>
                        </a:rPr>
                        <a:t>二氧化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CO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+ 2HCl = CaCl 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CO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↑+ 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固、液不加热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  <a:ea typeface="黑体"/>
                        </a:rPr>
                        <a:t>将气体通入澄清的石灰水，澄清的石灰水变浑浊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8" name="Text Box 30"/>
          <p:cNvSpPr/>
          <p:nvPr/>
        </p:nvSpPr>
        <p:spPr>
          <a:xfrm>
            <a:off x="1953000" y="252720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1"/>
          <p:cNvSpPr/>
          <p:nvPr/>
        </p:nvSpPr>
        <p:spPr>
          <a:xfrm>
            <a:off x="250920" y="131760"/>
            <a:ext cx="5424480" cy="64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实验室制法的比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106200" y="2889360"/>
          <a:ext cx="8929800" cy="3635280"/>
        </p:xfrm>
        <a:graphic>
          <a:graphicData uri="http://schemas.openxmlformats.org/drawingml/2006/table">
            <a:tbl>
              <a:tblPr/>
              <a:tblGrid>
                <a:gridCol w="3168720"/>
                <a:gridCol w="2592360"/>
                <a:gridCol w="316872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黑体"/>
                        </a:rPr>
                        <a:t>所用药品名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黑体"/>
                        </a:rPr>
                        <a:t>有关化学方程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黑体"/>
                        </a:rPr>
                        <a:t>所选用的发生装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1" name="Rectangle 28"/>
          <p:cNvSpPr/>
          <p:nvPr/>
        </p:nvSpPr>
        <p:spPr>
          <a:xfrm>
            <a:off x="745920" y="2960640"/>
            <a:ext cx="17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选制取的气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9"/>
          <p:cNvSpPr/>
          <p:nvPr/>
        </p:nvSpPr>
        <p:spPr>
          <a:xfrm>
            <a:off x="3911760" y="5805360"/>
            <a:ext cx="87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 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0"/>
          <p:cNvSpPr/>
          <p:nvPr/>
        </p:nvSpPr>
        <p:spPr>
          <a:xfrm>
            <a:off x="6864840" y="5805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1"/>
          <p:cNvSpPr/>
          <p:nvPr/>
        </p:nvSpPr>
        <p:spPr>
          <a:xfrm>
            <a:off x="3855960" y="2960640"/>
            <a:ext cx="11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氧      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2"/>
          <p:cNvSpPr/>
          <p:nvPr/>
        </p:nvSpPr>
        <p:spPr>
          <a:xfrm>
            <a:off x="3159000" y="3479760"/>
            <a:ext cx="275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过氧化氢溶液、二氧化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3"/>
          <p:cNvSpPr/>
          <p:nvPr/>
        </p:nvSpPr>
        <p:spPr>
          <a:xfrm>
            <a:off x="3222720" y="4716360"/>
            <a:ext cx="316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H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H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4"/>
          <p:cNvSpPr/>
          <p:nvPr/>
        </p:nvSpPr>
        <p:spPr>
          <a:xfrm>
            <a:off x="3699360" y="4400640"/>
            <a:ext cx="82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n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5"/>
          <p:cNvSpPr/>
          <p:nvPr/>
        </p:nvSpPr>
        <p:spPr>
          <a:xfrm>
            <a:off x="3985200" y="5337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6"/>
          <p:cNvSpPr/>
          <p:nvPr/>
        </p:nvSpPr>
        <p:spPr>
          <a:xfrm>
            <a:off x="5835600" y="3916440"/>
            <a:ext cx="2540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7"/>
          <p:cNvSpPr/>
          <p:nvPr/>
        </p:nvSpPr>
        <p:spPr>
          <a:xfrm>
            <a:off x="6703920" y="2924280"/>
            <a:ext cx="222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二氧化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8"/>
          <p:cNvSpPr/>
          <p:nvPr/>
        </p:nvSpPr>
        <p:spPr>
          <a:xfrm>
            <a:off x="6156360" y="3500280"/>
            <a:ext cx="26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大理石（或石灰石）、稀盐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9"/>
          <p:cNvSpPr/>
          <p:nvPr/>
        </p:nvSpPr>
        <p:spPr>
          <a:xfrm>
            <a:off x="6793560" y="5337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0"/>
          <p:cNvSpPr/>
          <p:nvPr/>
        </p:nvSpPr>
        <p:spPr>
          <a:xfrm>
            <a:off x="612000" y="59500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选用的收集装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1"/>
          <p:cNvSpPr/>
          <p:nvPr/>
        </p:nvSpPr>
        <p:spPr>
          <a:xfrm>
            <a:off x="5867280" y="4395960"/>
            <a:ext cx="32767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C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HCl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Cl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↑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2"/>
          <p:cNvSpPr/>
          <p:nvPr/>
        </p:nvSpPr>
        <p:spPr>
          <a:xfrm>
            <a:off x="142920" y="1943280"/>
            <a:ext cx="86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67"/>
                </a:solidFill>
                <a:latin typeface="Arial"/>
                <a:ea typeface="黑体"/>
              </a:rPr>
              <a:t>请你自选药品，选择上述合适装置，制备两种我们学过的不同气体，完成下列表格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43"/>
          <p:cNvGrpSpPr/>
          <p:nvPr/>
        </p:nvGrpSpPr>
        <p:grpSpPr>
          <a:xfrm>
            <a:off x="2198520" y="0"/>
            <a:ext cx="6129360" cy="1893960"/>
            <a:chOff x="2198520" y="0"/>
            <a:chExt cx="6129360" cy="1893960"/>
          </a:xfrm>
        </p:grpSpPr>
        <p:grpSp>
          <p:nvGrpSpPr>
            <p:cNvPr id="237" name="Group 44"/>
            <p:cNvGrpSpPr/>
            <p:nvPr/>
          </p:nvGrpSpPr>
          <p:grpSpPr>
            <a:xfrm>
              <a:off x="2198520" y="0"/>
              <a:ext cx="6041520" cy="1606320"/>
              <a:chOff x="2198520" y="0"/>
              <a:chExt cx="6041520" cy="1606320"/>
            </a:xfrm>
          </p:grpSpPr>
          <p:grpSp>
            <p:nvGrpSpPr>
              <p:cNvPr id="238" name="Group 45"/>
              <p:cNvGrpSpPr/>
              <p:nvPr/>
            </p:nvGrpSpPr>
            <p:grpSpPr>
              <a:xfrm>
                <a:off x="2198520" y="91080"/>
                <a:ext cx="6041520" cy="1515240"/>
                <a:chOff x="2198520" y="91080"/>
                <a:chExt cx="6041520" cy="1515240"/>
              </a:xfrm>
            </p:grpSpPr>
            <p:grpSp>
              <p:nvGrpSpPr>
                <p:cNvPr id="239" name="Group 46"/>
                <p:cNvGrpSpPr/>
                <p:nvPr/>
              </p:nvGrpSpPr>
              <p:grpSpPr>
                <a:xfrm>
                  <a:off x="2198520" y="217080"/>
                  <a:ext cx="6041520" cy="1381680"/>
                  <a:chOff x="2198520" y="217080"/>
                  <a:chExt cx="6041520" cy="1381680"/>
                </a:xfrm>
              </p:grpSpPr>
              <p:grpSp>
                <p:nvGrpSpPr>
                  <p:cNvPr id="240" name="Group 47"/>
                  <p:cNvGrpSpPr/>
                  <p:nvPr/>
                </p:nvGrpSpPr>
                <p:grpSpPr>
                  <a:xfrm>
                    <a:off x="3675600" y="313920"/>
                    <a:ext cx="1332360" cy="1227240"/>
                    <a:chOff x="3675600" y="313920"/>
                    <a:chExt cx="1332360" cy="1227240"/>
                  </a:xfrm>
                </p:grpSpPr>
                <p:grpSp>
                  <p:nvGrpSpPr>
                    <p:cNvPr id="241" name="Group 48"/>
                    <p:cNvGrpSpPr/>
                    <p:nvPr/>
                  </p:nvGrpSpPr>
                  <p:grpSpPr>
                    <a:xfrm>
                      <a:off x="4176720" y="681480"/>
                      <a:ext cx="831240" cy="172080"/>
                      <a:chOff x="4176720" y="681480"/>
                      <a:chExt cx="831240" cy="172080"/>
                    </a:xfrm>
                  </p:grpSpPr>
                  <p:sp>
                    <p:nvSpPr>
                      <p:cNvPr id="242" name="未知"/>
                      <p:cNvSpPr/>
                      <p:nvPr/>
                    </p:nvSpPr>
                    <p:spPr>
                      <a:xfrm>
                        <a:off x="4211640" y="708480"/>
                        <a:ext cx="339480" cy="145080"/>
                      </a:xfrm>
                      <a:custGeom>
                        <a:avLst/>
                        <a:gdLst>
                          <a:gd name="textAreaLeft" fmla="*/ 0 w 339480"/>
                          <a:gd name="textAreaRight" fmla="*/ 339840 w 339480"/>
                          <a:gd name="textAreaTop" fmla="*/ 0 h 145080"/>
                          <a:gd name="textAreaBottom" fmla="*/ 145440 h 145080"/>
                        </a:gdLst>
                        <a:ahLst/>
                        <a:rect l="textAreaLeft" t="textAreaTop" r="textAreaRight" b="textAreaBottom"/>
                        <a:pathLst>
                          <a:path w="349" h="193">
                            <a:moveTo>
                              <a:pt x="349" y="1"/>
                            </a:moveTo>
                            <a:lnTo>
                              <a:pt x="59" y="0"/>
                            </a:lnTo>
                            <a:lnTo>
                              <a:pt x="29" y="8"/>
                            </a:lnTo>
                            <a:lnTo>
                              <a:pt x="8" y="29"/>
                            </a:lnTo>
                            <a:lnTo>
                              <a:pt x="0" y="59"/>
                            </a:lnTo>
                            <a:lnTo>
                              <a:pt x="1" y="193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3" name="未知"/>
                      <p:cNvSpPr/>
                      <p:nvPr/>
                    </p:nvSpPr>
                    <p:spPr>
                      <a:xfrm>
                        <a:off x="4176720" y="681480"/>
                        <a:ext cx="377280" cy="163080"/>
                      </a:xfrm>
                      <a:custGeom>
                        <a:avLst/>
                        <a:gdLst>
                          <a:gd name="textAreaLeft" fmla="*/ 0 w 377280"/>
                          <a:gd name="textAreaRight" fmla="*/ 377640 w 377280"/>
                          <a:gd name="textAreaTop" fmla="*/ 0 h 163080"/>
                          <a:gd name="textAreaBottom" fmla="*/ 163440 h 163080"/>
                        </a:gdLst>
                        <a:ahLst/>
                        <a:rect l="textAreaLeft" t="textAreaTop" r="textAreaRight" b="textAreaBottom"/>
                        <a:pathLst>
                          <a:path w="388" h="217">
                            <a:moveTo>
                              <a:pt x="388" y="0"/>
                            </a:moveTo>
                            <a:lnTo>
                              <a:pt x="94" y="0"/>
                            </a:lnTo>
                            <a:lnTo>
                              <a:pt x="70" y="3"/>
                            </a:lnTo>
                            <a:lnTo>
                              <a:pt x="47" y="13"/>
                            </a:lnTo>
                            <a:lnTo>
                              <a:pt x="27" y="27"/>
                            </a:lnTo>
                            <a:lnTo>
                              <a:pt x="13" y="47"/>
                            </a:lnTo>
                            <a:lnTo>
                              <a:pt x="3" y="70"/>
                            </a:lnTo>
                            <a:lnTo>
                              <a:pt x="0" y="94"/>
                            </a:lnTo>
                            <a:lnTo>
                              <a:pt x="1" y="217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4" name="Line 51"/>
                      <p:cNvSpPr/>
                      <p:nvPr/>
                    </p:nvSpPr>
                    <p:spPr>
                      <a:xfrm flipH="1">
                        <a:off x="4413960" y="708480"/>
                        <a:ext cx="5940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5" name="Line 52"/>
                      <p:cNvSpPr/>
                      <p:nvPr/>
                    </p:nvSpPr>
                    <p:spPr>
                      <a:xfrm flipH="1">
                        <a:off x="4408200" y="682920"/>
                        <a:ext cx="5940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46" name="Group 53"/>
                    <p:cNvGrpSpPr/>
                    <p:nvPr/>
                  </p:nvGrpSpPr>
                  <p:grpSpPr>
                    <a:xfrm>
                      <a:off x="3675600" y="313920"/>
                      <a:ext cx="805320" cy="1227240"/>
                      <a:chOff x="3675600" y="313920"/>
                      <a:chExt cx="805320" cy="1227240"/>
                    </a:xfrm>
                  </p:grpSpPr>
                  <p:sp>
                    <p:nvSpPr>
                      <p:cNvPr id="247" name="Oval 54"/>
                      <p:cNvSpPr/>
                      <p:nvPr/>
                    </p:nvSpPr>
                    <p:spPr>
                      <a:xfrm>
                        <a:off x="4040640" y="1456200"/>
                        <a:ext cx="25560" cy="194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8" name="Oval 55"/>
                      <p:cNvSpPr/>
                      <p:nvPr/>
                    </p:nvSpPr>
                    <p:spPr>
                      <a:xfrm>
                        <a:off x="4254840" y="1432080"/>
                        <a:ext cx="41400" cy="30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9" name="Oval 56"/>
                      <p:cNvSpPr/>
                      <p:nvPr/>
                    </p:nvSpPr>
                    <p:spPr>
                      <a:xfrm>
                        <a:off x="4185720" y="1382400"/>
                        <a:ext cx="42120" cy="313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120" bIns="-2412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0" name="Rectangle 57"/>
                      <p:cNvSpPr/>
                      <p:nvPr/>
                    </p:nvSpPr>
                    <p:spPr>
                      <a:xfrm>
                        <a:off x="4052520" y="827280"/>
                        <a:ext cx="220680" cy="813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595959"/>
                          </a:gs>
                          <a:gs pos="50000">
                            <a:srgbClr val="ffffff"/>
                          </a:gs>
                          <a:gs pos="100000">
                            <a:srgbClr val="595959"/>
                          </a:gs>
                        </a:gsLst>
                        <a:lin ang="0"/>
                      </a:gradFill>
                      <a:ln w="3240">
                        <a:solidFill>
                          <a:srgbClr val="333333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560" bIns="3456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1" name="Rectangle 58"/>
                      <p:cNvSpPr/>
                      <p:nvPr/>
                    </p:nvSpPr>
                    <p:spPr>
                      <a:xfrm>
                        <a:off x="4077360" y="913680"/>
                        <a:ext cx="176400" cy="597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0c0c0"/>
                          </a:gs>
                          <a:gs pos="100000">
                            <a:srgbClr val="454545"/>
                          </a:gs>
                        </a:gsLst>
                        <a:lin ang="0"/>
                      </a:gradFill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52" name="Group 59"/>
                      <p:cNvGrpSpPr/>
                      <p:nvPr/>
                    </p:nvGrpSpPr>
                    <p:grpSpPr>
                      <a:xfrm>
                        <a:off x="3982680" y="313920"/>
                        <a:ext cx="298800" cy="513000"/>
                        <a:chOff x="3982680" y="313920"/>
                        <a:chExt cx="298800" cy="513000"/>
                      </a:xfrm>
                    </p:grpSpPr>
                    <p:sp>
                      <p:nvSpPr>
                        <p:cNvPr id="253" name="Oval 60"/>
                        <p:cNvSpPr/>
                        <p:nvPr/>
                      </p:nvSpPr>
                      <p:spPr>
                        <a:xfrm>
                          <a:off x="3982680" y="343800"/>
                          <a:ext cx="290520" cy="218520"/>
                        </a:xfrm>
                        <a:prstGeom prst="ellips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未知"/>
                        <p:cNvSpPr/>
                        <p:nvPr/>
                      </p:nvSpPr>
                      <p:spPr>
                        <a:xfrm>
                          <a:off x="4058640" y="313920"/>
                          <a:ext cx="132120" cy="45000"/>
                        </a:xfrm>
                        <a:custGeom>
                          <a:avLst/>
                          <a:gdLst>
                            <a:gd name="textAreaLeft" fmla="*/ 0 w 132120"/>
                            <a:gd name="textAreaRight" fmla="*/ 132480 w 132120"/>
                            <a:gd name="textAreaTop" fmla="*/ 0 h 45000"/>
                            <a:gd name="textAreaBottom" fmla="*/ 45360 h 45000"/>
                          </a:gdLst>
                          <a:ahLst/>
                          <a:rect l="textAreaLeft" t="textAreaTop" r="textAreaRight" b="textAreaBottom"/>
                          <a:pathLst>
                            <a:path w="540" h="1560">
                              <a:moveTo>
                                <a:pt x="0" y="1560"/>
                              </a:moveTo>
                              <a:lnTo>
                                <a:pt x="0" y="0"/>
                              </a:lnTo>
                              <a:lnTo>
                                <a:pt x="540" y="0"/>
                              </a:lnTo>
                              <a:lnTo>
                                <a:pt x="540" y="1560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440" bIns="-1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Rectangle 62"/>
                        <p:cNvSpPr/>
                        <p:nvPr/>
                      </p:nvSpPr>
                      <p:spPr>
                        <a:xfrm flipH="1" rot="5400000">
                          <a:off x="4092480" y="571680"/>
                          <a:ext cx="73440" cy="7848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1680" bIns="31680" anchor="t" vert="eaVert" rot="10800000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Line 63"/>
                        <p:cNvSpPr/>
                        <p:nvPr/>
                      </p:nvSpPr>
                      <p:spPr>
                        <a:xfrm flipV="1">
                          <a:off x="4144680" y="545760"/>
                          <a:ext cx="0" cy="275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xjhxzj1"/>
                        <p:cNvSpPr/>
                        <p:nvPr/>
                      </p:nvSpPr>
                      <p:spPr>
                        <a:xfrm rot="5400000">
                          <a:off x="4073040" y="371520"/>
                          <a:ext cx="99720" cy="257040"/>
                        </a:xfrm>
                        <a:custGeom>
                          <a:avLst/>
                          <a:gdLst>
                            <a:gd name="textAreaLeft" fmla="*/ 0 w 99720"/>
                            <a:gd name="textAreaRight" fmla="*/ 100080 w 99720"/>
                            <a:gd name="textAreaTop" fmla="*/ 0 h 257040"/>
                            <a:gd name="textAreaBottom" fmla="*/ 257400 h 257040"/>
                          </a:gdLst>
                          <a:ahLst/>
                          <a:rect l="textAreaLeft" t="textAreaTop" r="textAreaRight" b="textAreaBottom"/>
                          <a:pathLst>
                            <a:path w="532" h="1065">
                              <a:moveTo>
                                <a:pt x="0" y="0"/>
                              </a:moveTo>
                              <a:lnTo>
                                <a:pt x="19" y="0"/>
                              </a:lnTo>
                              <a:lnTo>
                                <a:pt x="37" y="1"/>
                              </a:lnTo>
                              <a:lnTo>
                                <a:pt x="56" y="3"/>
                              </a:lnTo>
                              <a:lnTo>
                                <a:pt x="74" y="5"/>
                              </a:lnTo>
                              <a:lnTo>
                                <a:pt x="92" y="8"/>
                              </a:lnTo>
                              <a:lnTo>
                                <a:pt x="111" y="12"/>
                              </a:lnTo>
                              <a:lnTo>
                                <a:pt x="129" y="16"/>
                              </a:lnTo>
                              <a:lnTo>
                                <a:pt x="147" y="21"/>
                              </a:lnTo>
                              <a:lnTo>
                                <a:pt x="164" y="26"/>
                              </a:lnTo>
                              <a:lnTo>
                                <a:pt x="182" y="32"/>
                              </a:lnTo>
                              <a:lnTo>
                                <a:pt x="199" y="39"/>
                              </a:lnTo>
                              <a:lnTo>
                                <a:pt x="216" y="46"/>
                              </a:lnTo>
                              <a:lnTo>
                                <a:pt x="233" y="54"/>
                              </a:lnTo>
                              <a:lnTo>
                                <a:pt x="250" y="62"/>
                              </a:lnTo>
                              <a:lnTo>
                                <a:pt x="266" y="71"/>
                              </a:lnTo>
                              <a:lnTo>
                                <a:pt x="282" y="81"/>
                              </a:lnTo>
                              <a:lnTo>
                                <a:pt x="297" y="91"/>
                              </a:lnTo>
                              <a:lnTo>
                                <a:pt x="313" y="102"/>
                              </a:lnTo>
                              <a:lnTo>
                                <a:pt x="328" y="113"/>
                              </a:lnTo>
                              <a:lnTo>
                                <a:pt x="342" y="125"/>
                              </a:lnTo>
                              <a:lnTo>
                                <a:pt x="356" y="137"/>
                              </a:lnTo>
                              <a:lnTo>
                                <a:pt x="370" y="149"/>
                              </a:lnTo>
                              <a:lnTo>
                                <a:pt x="383" y="163"/>
                              </a:lnTo>
                              <a:lnTo>
                                <a:pt x="395" y="176"/>
                              </a:lnTo>
                              <a:lnTo>
                                <a:pt x="408" y="190"/>
                              </a:lnTo>
                              <a:lnTo>
                                <a:pt x="419" y="205"/>
                              </a:lnTo>
                              <a:lnTo>
                                <a:pt x="430" y="219"/>
                              </a:lnTo>
                              <a:lnTo>
                                <a:pt x="441" y="235"/>
                              </a:lnTo>
                              <a:lnTo>
                                <a:pt x="451" y="250"/>
                              </a:lnTo>
                              <a:lnTo>
                                <a:pt x="461" y="266"/>
                              </a:lnTo>
                              <a:lnTo>
                                <a:pt x="470" y="282"/>
                              </a:lnTo>
                              <a:lnTo>
                                <a:pt x="478" y="299"/>
                              </a:lnTo>
                              <a:lnTo>
                                <a:pt x="486" y="316"/>
                              </a:lnTo>
                              <a:lnTo>
                                <a:pt x="493" y="333"/>
                              </a:lnTo>
                              <a:lnTo>
                                <a:pt x="500" y="350"/>
                              </a:lnTo>
                              <a:lnTo>
                                <a:pt x="506" y="368"/>
                              </a:lnTo>
                              <a:lnTo>
                                <a:pt x="511" y="386"/>
                              </a:lnTo>
                              <a:lnTo>
                                <a:pt x="516" y="404"/>
                              </a:lnTo>
                              <a:lnTo>
                                <a:pt x="520" y="422"/>
                              </a:lnTo>
                              <a:lnTo>
                                <a:pt x="524" y="440"/>
                              </a:lnTo>
                              <a:lnTo>
                                <a:pt x="527" y="458"/>
                              </a:lnTo>
                              <a:lnTo>
                                <a:pt x="529" y="477"/>
                              </a:lnTo>
                              <a:lnTo>
                                <a:pt x="531" y="495"/>
                              </a:lnTo>
                              <a:lnTo>
                                <a:pt x="532" y="514"/>
                              </a:lnTo>
                              <a:lnTo>
                                <a:pt x="532" y="533"/>
                              </a:lnTo>
                              <a:lnTo>
                                <a:pt x="532" y="551"/>
                              </a:lnTo>
                              <a:lnTo>
                                <a:pt x="531" y="570"/>
                              </a:lnTo>
                              <a:lnTo>
                                <a:pt x="529" y="588"/>
                              </a:lnTo>
                              <a:lnTo>
                                <a:pt x="527" y="607"/>
                              </a:lnTo>
                              <a:lnTo>
                                <a:pt x="524" y="625"/>
                              </a:lnTo>
                              <a:lnTo>
                                <a:pt x="520" y="643"/>
                              </a:lnTo>
                              <a:lnTo>
                                <a:pt x="516" y="661"/>
                              </a:lnTo>
                              <a:lnTo>
                                <a:pt x="511" y="679"/>
                              </a:lnTo>
                              <a:lnTo>
                                <a:pt x="506" y="697"/>
                              </a:lnTo>
                              <a:lnTo>
                                <a:pt x="500" y="715"/>
                              </a:lnTo>
                              <a:lnTo>
                                <a:pt x="493" y="732"/>
                              </a:lnTo>
                              <a:lnTo>
                                <a:pt x="486" y="749"/>
                              </a:lnTo>
                              <a:lnTo>
                                <a:pt x="478" y="766"/>
                              </a:lnTo>
                              <a:lnTo>
                                <a:pt x="470" y="783"/>
                              </a:lnTo>
                              <a:lnTo>
                                <a:pt x="461" y="799"/>
                              </a:lnTo>
                              <a:lnTo>
                                <a:pt x="451" y="815"/>
                              </a:lnTo>
                              <a:lnTo>
                                <a:pt x="441" y="830"/>
                              </a:lnTo>
                              <a:lnTo>
                                <a:pt x="430" y="846"/>
                              </a:lnTo>
                              <a:lnTo>
                                <a:pt x="419" y="860"/>
                              </a:lnTo>
                              <a:lnTo>
                                <a:pt x="408" y="875"/>
                              </a:lnTo>
                              <a:lnTo>
                                <a:pt x="395" y="889"/>
                              </a:lnTo>
                              <a:lnTo>
                                <a:pt x="383" y="902"/>
                              </a:lnTo>
                              <a:lnTo>
                                <a:pt x="370" y="916"/>
                              </a:lnTo>
                              <a:lnTo>
                                <a:pt x="356" y="928"/>
                              </a:lnTo>
                              <a:lnTo>
                                <a:pt x="342" y="940"/>
                              </a:lnTo>
                              <a:lnTo>
                                <a:pt x="328" y="952"/>
                              </a:lnTo>
                              <a:lnTo>
                                <a:pt x="313" y="963"/>
                              </a:lnTo>
                              <a:lnTo>
                                <a:pt x="297" y="974"/>
                              </a:lnTo>
                              <a:lnTo>
                                <a:pt x="282" y="984"/>
                              </a:lnTo>
                              <a:lnTo>
                                <a:pt x="266" y="994"/>
                              </a:lnTo>
                              <a:lnTo>
                                <a:pt x="250" y="1003"/>
                              </a:lnTo>
                              <a:lnTo>
                                <a:pt x="233" y="1011"/>
                              </a:lnTo>
                              <a:lnTo>
                                <a:pt x="216" y="1019"/>
                              </a:lnTo>
                              <a:lnTo>
                                <a:pt x="199" y="1026"/>
                              </a:lnTo>
                              <a:lnTo>
                                <a:pt x="182" y="1033"/>
                              </a:lnTo>
                              <a:lnTo>
                                <a:pt x="164" y="1039"/>
                              </a:lnTo>
                              <a:lnTo>
                                <a:pt x="147" y="1044"/>
                              </a:lnTo>
                              <a:lnTo>
                                <a:pt x="129" y="1049"/>
                              </a:lnTo>
                              <a:lnTo>
                                <a:pt x="111" y="1053"/>
                              </a:lnTo>
                              <a:lnTo>
                                <a:pt x="92" y="1057"/>
                              </a:lnTo>
                              <a:lnTo>
                                <a:pt x="74" y="1060"/>
                              </a:lnTo>
                              <a:lnTo>
                                <a:pt x="56" y="1062"/>
                              </a:lnTo>
                              <a:lnTo>
                                <a:pt x="37" y="1064"/>
                              </a:lnTo>
                              <a:lnTo>
                                <a:pt x="19" y="1065"/>
                              </a:lnTo>
                              <a:lnTo>
                                <a:pt x="0" y="1065"/>
                              </a:lnTo>
                            </a:path>
                          </a:pathLst>
                        </a:custGeom>
                        <a:blipFill rotWithShape="0">
                          <a:blip r:embed="rId1"/>
                          <a:srcRect/>
                          <a:tile tx="0" ty="0" sx="100000" sy="100000" algn="ctr"/>
                        </a:blip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Line 65"/>
                        <p:cNvSpPr/>
                        <p:nvPr/>
                      </p:nvSpPr>
                      <p:spPr>
                        <a:xfrm>
                          <a:off x="3982680" y="424080"/>
                          <a:ext cx="2988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Rectangle 66"/>
                        <p:cNvSpPr/>
                        <p:nvPr/>
                      </p:nvSpPr>
                      <p:spPr>
                        <a:xfrm flipH="1" rot="5400000">
                          <a:off x="4183560" y="591480"/>
                          <a:ext cx="54000" cy="39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0" bIns="-7200" anchor="t" vert="eaVert" rot="10800000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Line 67"/>
                        <p:cNvSpPr/>
                        <p:nvPr/>
                      </p:nvSpPr>
                      <p:spPr>
                        <a:xfrm flipV="1">
                          <a:off x="4113000" y="551520"/>
                          <a:ext cx="0" cy="275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Rectangle 68"/>
                        <p:cNvSpPr/>
                        <p:nvPr/>
                      </p:nvSpPr>
                      <p:spPr>
                        <a:xfrm flipH="1" rot="5400000">
                          <a:off x="4119480" y="551160"/>
                          <a:ext cx="24120" cy="1173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 vert="eaVert" rot="10800000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62" name="Group 69"/>
                      <p:cNvGrpSpPr/>
                      <p:nvPr/>
                    </p:nvGrpSpPr>
                    <p:grpSpPr>
                      <a:xfrm>
                        <a:off x="4190400" y="974520"/>
                        <a:ext cx="27720" cy="97200"/>
                        <a:chOff x="4190400" y="974520"/>
                        <a:chExt cx="27720" cy="97200"/>
                      </a:xfrm>
                    </p:grpSpPr>
                    <p:sp>
                      <p:nvSpPr>
                        <p:cNvPr id="263" name="Line 70"/>
                        <p:cNvSpPr/>
                        <p:nvPr/>
                      </p:nvSpPr>
                      <p:spPr>
                        <a:xfrm flipV="1">
                          <a:off x="4190400" y="974520"/>
                          <a:ext cx="0" cy="97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4" name="Line 71"/>
                        <p:cNvSpPr/>
                        <p:nvPr/>
                      </p:nvSpPr>
                      <p:spPr>
                        <a:xfrm flipV="1">
                          <a:off x="4218120" y="974520"/>
                          <a:ext cx="0" cy="97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65" name="y14line 3"/>
                      <p:cNvSpPr/>
                      <p:nvPr/>
                    </p:nvSpPr>
                    <p:spPr>
                      <a:xfrm>
                        <a:off x="3675600" y="892800"/>
                        <a:ext cx="23760" cy="15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6" name="y14line 4"/>
                      <p:cNvSpPr/>
                      <p:nvPr/>
                    </p:nvSpPr>
                    <p:spPr>
                      <a:xfrm flipH="1">
                        <a:off x="4263120" y="853560"/>
                        <a:ext cx="23760" cy="15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" name="y14line 5"/>
                      <p:cNvSpPr/>
                      <p:nvPr/>
                    </p:nvSpPr>
                    <p:spPr>
                      <a:xfrm>
                        <a:off x="4068360" y="869760"/>
                        <a:ext cx="0" cy="932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440" bIns="464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" name="y14line 6"/>
                      <p:cNvSpPr/>
                      <p:nvPr/>
                    </p:nvSpPr>
                    <p:spPr>
                      <a:xfrm>
                        <a:off x="4263120" y="869760"/>
                        <a:ext cx="0" cy="932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440" bIns="464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" name="y14line 7"/>
                      <p:cNvSpPr/>
                      <p:nvPr/>
                    </p:nvSpPr>
                    <p:spPr>
                      <a:xfrm flipH="1">
                        <a:off x="3800880" y="963000"/>
                        <a:ext cx="266760" cy="54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" name="y14line 8"/>
                      <p:cNvSpPr/>
                      <p:nvPr/>
                    </p:nvSpPr>
                    <p:spPr>
                      <a:xfrm>
                        <a:off x="4263120" y="963000"/>
                        <a:ext cx="217800" cy="54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" name="y14line 9"/>
                      <p:cNvSpPr/>
                      <p:nvPr/>
                    </p:nvSpPr>
                    <p:spPr>
                      <a:xfrm>
                        <a:off x="4118040" y="869760"/>
                        <a:ext cx="1213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2" name="y14line 10"/>
                      <p:cNvSpPr/>
                      <p:nvPr/>
                    </p:nvSpPr>
                    <p:spPr>
                      <a:xfrm>
                        <a:off x="4118040" y="963000"/>
                        <a:ext cx="1213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3" name="y14line 17"/>
                      <p:cNvSpPr/>
                      <p:nvPr/>
                    </p:nvSpPr>
                    <p:spPr>
                      <a:xfrm>
                        <a:off x="3826080" y="1541160"/>
                        <a:ext cx="630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4" name="y14Arc 19"/>
                      <p:cNvSpPr/>
                      <p:nvPr/>
                    </p:nvSpPr>
                    <p:spPr>
                      <a:xfrm flipH="1" flipV="1">
                        <a:off x="3801240" y="1509840"/>
                        <a:ext cx="24480" cy="30600"/>
                      </a:xfrm>
                      <a:custGeom>
                        <a:avLst/>
                        <a:gdLst>
                          <a:gd name="textAreaLeft" fmla="*/ 360 w 24480"/>
                          <a:gd name="textAreaRight" fmla="*/ 25200 w 24480"/>
                          <a:gd name="textAreaTop" fmla="*/ -360 h 30600"/>
                          <a:gd name="textAreaBottom" fmla="*/ 30600 h 30600"/>
                        </a:gdLst>
                        <a:ahLst/>
                        <a:rect l="textAreaLeft" t="textAreaTop" r="textAreaRight" b="textAreaBottom"/>
                        <a:pathLst>
                          <a:path fill="none" w="21600" h="21600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</a:path>
                          <a:path stroke="0" w="21600" h="21600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lnTo>
                              <a:pt x="0" y="21600"/>
                            </a:lnTo>
                            <a:close/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840" bIns="-158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" name="y14Arc 21"/>
                      <p:cNvSpPr/>
                      <p:nvPr/>
                    </p:nvSpPr>
                    <p:spPr>
                      <a:xfrm flipV="1">
                        <a:off x="4457160" y="1509840"/>
                        <a:ext cx="23760" cy="30600"/>
                      </a:xfrm>
                      <a:custGeom>
                        <a:avLst/>
                        <a:gdLst>
                          <a:gd name="textAreaLeft" fmla="*/ 0 w 23760"/>
                          <a:gd name="textAreaRight" fmla="*/ 24120 w 23760"/>
                          <a:gd name="textAreaTop" fmla="*/ -360 h 30600"/>
                          <a:gd name="textAreaBottom" fmla="*/ 30600 h 30600"/>
                        </a:gdLst>
                        <a:ahLst/>
                        <a:rect l="textAreaLeft" t="textAreaTop" r="textAreaRight" b="textAreaBottom"/>
                        <a:pathLst>
                          <a:path fill="none" w="21600" h="21600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</a:path>
                          <a:path stroke="0" w="21600" h="21600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lnTo>
                              <a:pt x="0" y="21600"/>
                            </a:lnTo>
                            <a:close/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840" bIns="-158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6" name="xjhhxtx5"/>
                      <p:cNvSpPr/>
                      <p:nvPr/>
                    </p:nvSpPr>
                    <p:spPr>
                      <a:xfrm>
                        <a:off x="4112280" y="967320"/>
                        <a:ext cx="26640" cy="466200"/>
                      </a:xfrm>
                      <a:custGeom>
                        <a:avLst/>
                        <a:gdLst>
                          <a:gd name="textAreaLeft" fmla="*/ 0 w 26640"/>
                          <a:gd name="textAreaRight" fmla="*/ 27000 w 26640"/>
                          <a:gd name="textAreaTop" fmla="*/ 0 h 466200"/>
                          <a:gd name="textAreaBottom" fmla="*/ 466560 h 466200"/>
                        </a:gdLst>
                        <a:ahLst/>
                        <a:rect l="textAreaLeft" t="textAreaTop" r="textAreaRight" b="textAreaBottom"/>
                        <a:pathLst>
                          <a:path w="160" h="1280">
                            <a:moveTo>
                              <a:pt x="0" y="0"/>
                            </a:moveTo>
                            <a:lnTo>
                              <a:pt x="0" y="1280"/>
                            </a:lnTo>
                            <a:lnTo>
                              <a:pt x="160" y="960"/>
                            </a:lnTo>
                            <a:lnTo>
                              <a:pt x="160" y="0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7" name="Line 84"/>
                      <p:cNvSpPr/>
                      <p:nvPr/>
                    </p:nvSpPr>
                    <p:spPr>
                      <a:xfrm>
                        <a:off x="3871440" y="1374480"/>
                        <a:ext cx="543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8" name="Oval 85"/>
                      <p:cNvSpPr/>
                      <p:nvPr/>
                    </p:nvSpPr>
                    <p:spPr>
                      <a:xfrm>
                        <a:off x="4149000" y="1456200"/>
                        <a:ext cx="25560" cy="194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9" name="Line 86"/>
                      <p:cNvSpPr/>
                      <p:nvPr/>
                    </p:nvSpPr>
                    <p:spPr>
                      <a:xfrm>
                        <a:off x="3904560" y="1414800"/>
                        <a:ext cx="162720" cy="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0" name="Line 87"/>
                      <p:cNvSpPr/>
                      <p:nvPr/>
                    </p:nvSpPr>
                    <p:spPr>
                      <a:xfrm>
                        <a:off x="3871440" y="1450440"/>
                        <a:ext cx="218880" cy="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1" name="Line 88"/>
                      <p:cNvSpPr/>
                      <p:nvPr/>
                    </p:nvSpPr>
                    <p:spPr>
                      <a:xfrm>
                        <a:off x="4185720" y="1412280"/>
                        <a:ext cx="218880" cy="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" name="Line 89"/>
                      <p:cNvSpPr/>
                      <p:nvPr/>
                    </p:nvSpPr>
                    <p:spPr>
                      <a:xfrm>
                        <a:off x="4312080" y="1447920"/>
                        <a:ext cx="123840" cy="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3" name="Line 90"/>
                      <p:cNvSpPr/>
                      <p:nvPr/>
                    </p:nvSpPr>
                    <p:spPr>
                      <a:xfrm>
                        <a:off x="3882240" y="1497600"/>
                        <a:ext cx="564840" cy="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84" name="Group 91"/>
                  <p:cNvGrpSpPr/>
                  <p:nvPr/>
                </p:nvGrpSpPr>
                <p:grpSpPr>
                  <a:xfrm>
                    <a:off x="6781680" y="466200"/>
                    <a:ext cx="1242000" cy="955080"/>
                    <a:chOff x="6781680" y="466200"/>
                    <a:chExt cx="1242000" cy="955080"/>
                  </a:xfrm>
                </p:grpSpPr>
                <p:grpSp>
                  <p:nvGrpSpPr>
                    <p:cNvPr id="285" name="Group 92"/>
                    <p:cNvGrpSpPr/>
                    <p:nvPr/>
                  </p:nvGrpSpPr>
                  <p:grpSpPr>
                    <a:xfrm>
                      <a:off x="6960960" y="623160"/>
                      <a:ext cx="1062720" cy="798120"/>
                      <a:chOff x="6960960" y="623160"/>
                      <a:chExt cx="1062720" cy="798120"/>
                    </a:xfrm>
                  </p:grpSpPr>
                  <p:grpSp>
                    <p:nvGrpSpPr>
                      <p:cNvPr id="286" name="Group 93"/>
                      <p:cNvGrpSpPr/>
                      <p:nvPr/>
                    </p:nvGrpSpPr>
                    <p:grpSpPr>
                      <a:xfrm>
                        <a:off x="6960960" y="892440"/>
                        <a:ext cx="1062720" cy="528840"/>
                        <a:chOff x="6960960" y="892440"/>
                        <a:chExt cx="1062720" cy="528840"/>
                      </a:xfrm>
                    </p:grpSpPr>
                    <p:grpSp>
                      <p:nvGrpSpPr>
                        <p:cNvPr id="287" name="Group 94"/>
                        <p:cNvGrpSpPr/>
                        <p:nvPr/>
                      </p:nvGrpSpPr>
                      <p:grpSpPr>
                        <a:xfrm>
                          <a:off x="6960960" y="892440"/>
                          <a:ext cx="1062720" cy="528840"/>
                          <a:chOff x="6960960" y="892440"/>
                          <a:chExt cx="1062720" cy="528840"/>
                        </a:xfrm>
                      </p:grpSpPr>
                      <p:sp>
                        <p:nvSpPr>
                          <p:cNvPr id="288" name="Line 95"/>
                          <p:cNvSpPr/>
                          <p:nvPr/>
                        </p:nvSpPr>
                        <p:spPr>
                          <a:xfrm>
                            <a:off x="6960960" y="892440"/>
                            <a:ext cx="360" cy="4680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9" name="Line 96"/>
                          <p:cNvSpPr/>
                          <p:nvPr/>
                        </p:nvSpPr>
                        <p:spPr>
                          <a:xfrm>
                            <a:off x="8021160" y="892440"/>
                            <a:ext cx="0" cy="4766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0" name="Line 97"/>
                          <p:cNvSpPr/>
                          <p:nvPr/>
                        </p:nvSpPr>
                        <p:spPr>
                          <a:xfrm>
                            <a:off x="6960960" y="892440"/>
                            <a:ext cx="106272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" name="Arc 98"/>
                          <p:cNvSpPr/>
                          <p:nvPr/>
                        </p:nvSpPr>
                        <p:spPr>
                          <a:xfrm flipH="1" rot="19200">
                            <a:off x="6960960" y="1343160"/>
                            <a:ext cx="89640" cy="77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fill="none" w="20163" h="21075">
                                <a:moveTo>
                                  <a:pt x="20162" y="7746"/>
                                </a:moveTo>
                                <a:cubicBezTo>
                                  <a:pt x="17572" y="14489"/>
                                  <a:pt x="11782" y="19491"/>
                                  <a:pt x="4734" y="21074"/>
                                </a:cubicBezTo>
                              </a:path>
                              <a:path stroke="0" w="20163" h="21075">
                                <a:moveTo>
                                  <a:pt x="20162" y="7746"/>
                                </a:moveTo>
                                <a:cubicBezTo>
                                  <a:pt x="17572" y="14489"/>
                                  <a:pt x="11782" y="19491"/>
                                  <a:pt x="4734" y="21074"/>
                                </a:cubicBez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0960" bIns="3096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" name="Line 99"/>
                          <p:cNvSpPr/>
                          <p:nvPr/>
                        </p:nvSpPr>
                        <p:spPr>
                          <a:xfrm>
                            <a:off x="7031520" y="1421280"/>
                            <a:ext cx="90864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" name="Arc 100"/>
                          <p:cNvSpPr/>
                          <p:nvPr/>
                        </p:nvSpPr>
                        <p:spPr>
                          <a:xfrm rot="21580800">
                            <a:off x="7921440" y="1343520"/>
                            <a:ext cx="99000" cy="77400"/>
                          </a:xfrm>
                          <a:custGeom>
                            <a:avLst/>
                            <a:gdLst>
                              <a:gd name="textAreaLeft" fmla="*/ 0 w 99000"/>
                              <a:gd name="textAreaRight" fmla="*/ 99360 w 99000"/>
                              <a:gd name="textAreaTop" fmla="*/ 0 h 77400"/>
                              <a:gd name="textAreaBottom" fmla="*/ 77760 h 77400"/>
                            </a:gdLst>
                            <a:ahLst/>
                            <a:rect l="textAreaLeft" t="textAreaTop" r="textAreaRight" b="textAreaBottom"/>
                            <a:pathLst>
                              <a:path fill="none" w="20163" h="21075">
                                <a:moveTo>
                                  <a:pt x="20162" y="7746"/>
                                </a:moveTo>
                                <a:cubicBezTo>
                                  <a:pt x="17572" y="14489"/>
                                  <a:pt x="11782" y="19491"/>
                                  <a:pt x="4734" y="21074"/>
                                </a:cubicBezTo>
                              </a:path>
                              <a:path stroke="0" w="20163" h="21075">
                                <a:moveTo>
                                  <a:pt x="20162" y="7746"/>
                                </a:moveTo>
                                <a:cubicBezTo>
                                  <a:pt x="17572" y="14489"/>
                                  <a:pt x="11782" y="19491"/>
                                  <a:pt x="4734" y="21074"/>
                                </a:cubicBez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0960" bIns="3096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94" name="Rectangle 101"/>
                        <p:cNvSpPr/>
                        <p:nvPr/>
                      </p:nvSpPr>
                      <p:spPr>
                        <a:xfrm>
                          <a:off x="6976800" y="1025640"/>
                          <a:ext cx="1031040" cy="370440"/>
                        </a:xfrm>
                        <a:prstGeom prst="rect">
                          <a:avLst/>
                        </a:prstGeom>
                        <a:blipFill rotWithShape="0">
                          <a:blip r:embed="rId2"/>
                          <a:srcRect/>
                          <a:tile tx="0" ty="0" sx="100000" sy="100000" algn="ctr"/>
                        </a:blip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" name="Line 102"/>
                        <p:cNvSpPr/>
                        <p:nvPr/>
                      </p:nvSpPr>
                      <p:spPr>
                        <a:xfrm>
                          <a:off x="6960960" y="1002600"/>
                          <a:ext cx="1061640" cy="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96" name="Group 103"/>
                      <p:cNvGrpSpPr/>
                      <p:nvPr/>
                    </p:nvGrpSpPr>
                    <p:grpSpPr>
                      <a:xfrm>
                        <a:off x="7374960" y="623160"/>
                        <a:ext cx="313920" cy="527760"/>
                        <a:chOff x="7374960" y="623160"/>
                        <a:chExt cx="313920" cy="527760"/>
                      </a:xfrm>
                    </p:grpSpPr>
                    <p:grpSp>
                      <p:nvGrpSpPr>
                        <p:cNvPr id="297" name="Group 104"/>
                        <p:cNvGrpSpPr/>
                        <p:nvPr/>
                      </p:nvGrpSpPr>
                      <p:grpSpPr>
                        <a:xfrm>
                          <a:off x="7374960" y="623160"/>
                          <a:ext cx="313920" cy="527760"/>
                          <a:chOff x="7374960" y="623160"/>
                          <a:chExt cx="313920" cy="527760"/>
                        </a:xfrm>
                      </p:grpSpPr>
                      <p:grpSp>
                        <p:nvGrpSpPr>
                          <p:cNvPr id="298" name="Group 105"/>
                          <p:cNvGrpSpPr/>
                          <p:nvPr/>
                        </p:nvGrpSpPr>
                        <p:grpSpPr>
                          <a:xfrm>
                            <a:off x="7374960" y="623160"/>
                            <a:ext cx="313920" cy="527760"/>
                            <a:chOff x="7374960" y="623160"/>
                            <a:chExt cx="313920" cy="527760"/>
                          </a:xfrm>
                        </p:grpSpPr>
                        <p:sp>
                          <p:nvSpPr>
                            <p:cNvPr id="299" name="AutoShape 106"/>
                            <p:cNvSpPr/>
                            <p:nvPr/>
                          </p:nvSpPr>
                          <p:spPr>
                            <a:xfrm flipH="1" flipV="1">
                              <a:off x="7374960" y="623160"/>
                              <a:ext cx="313920" cy="413280"/>
                            </a:xfrm>
                            <a:custGeom>
                              <a:avLst/>
                              <a:gdLst>
                                <a:gd name="textAreaLeft" fmla="*/ 15120 w 313920"/>
                                <a:gd name="textAreaRight" fmla="*/ 298800 w 313920"/>
                                <a:gd name="textAreaTop" fmla="*/ 15120 h 413280"/>
                                <a:gd name="textAreaBottom" fmla="*/ 398160 h 4132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1600" h="28429">
                                  <a:moveTo>
                                    <a:pt x="3600" y="0"/>
                                  </a:moveTo>
                                  <a:arcTo wR="3600" hR="3600" stAng="16200000" swAng="-5400000"/>
                                  <a:lnTo>
                                    <a:pt x="0" y="24829"/>
                                  </a:lnTo>
                                  <a:arcTo wR="3600" hR="3600" stAng="10800000" swAng="-5400000"/>
                                  <a:lnTo>
                                    <a:pt x="18000" y="28429"/>
                                  </a:lnTo>
                                  <a:arcTo wR="3600" hR="3600" stAng="5400000" swAng="-5400000"/>
                                  <a:lnTo>
                                    <a:pt x="21600" y="3600"/>
                                  </a:lnTo>
                                  <a:arcTo wR="3600" hR="3600" stAng="0" swAng="-5400000"/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 rot="10800000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00" name="未知"/>
                            <p:cNvSpPr/>
                            <p:nvPr/>
                          </p:nvSpPr>
                          <p:spPr>
                            <a:xfrm flipH="1" flipV="1">
                              <a:off x="7404480" y="1030680"/>
                              <a:ext cx="253440" cy="119880"/>
                            </a:xfrm>
                            <a:custGeom>
                              <a:avLst/>
                              <a:gdLst>
                                <a:gd name="textAreaLeft" fmla="*/ 360 w 253440"/>
                                <a:gd name="textAreaRight" fmla="*/ 254160 w 253440"/>
                                <a:gd name="textAreaTop" fmla="*/ -360 h 119880"/>
                                <a:gd name="textAreaBottom" fmla="*/ 119880 h 1198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474" h="235">
                                  <a:moveTo>
                                    <a:pt x="0" y="235"/>
                                  </a:moveTo>
                                  <a:lnTo>
                                    <a:pt x="102" y="180"/>
                                  </a:lnTo>
                                  <a:lnTo>
                                    <a:pt x="105" y="54"/>
                                  </a:lnTo>
                                  <a:lnTo>
                                    <a:pt x="57" y="0"/>
                                  </a:lnTo>
                                  <a:lnTo>
                                    <a:pt x="420" y="0"/>
                                  </a:lnTo>
                                  <a:lnTo>
                                    <a:pt x="375" y="51"/>
                                  </a:lnTo>
                                  <a:lnTo>
                                    <a:pt x="372" y="180"/>
                                  </a:lnTo>
                                  <a:lnTo>
                                    <a:pt x="474" y="235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01" name="Rectangle 108"/>
                          <p:cNvSpPr/>
                          <p:nvPr/>
                        </p:nvSpPr>
                        <p:spPr>
                          <a:xfrm>
                            <a:off x="7390800" y="782640"/>
                            <a:ext cx="273960" cy="253440"/>
                          </a:xfrm>
                          <a:prstGeom prst="rect">
                            <a:avLst/>
                          </a:prstGeom>
                          <a:blipFill rotWithShape="0">
                            <a:blip r:embed="rId3"/>
                            <a:srcRect/>
                            <a:tile tx="0" ty="0" sx="100000" sy="100000" algn="ctr"/>
                          </a:blip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02" name="Rectangle 109"/>
                        <p:cNvSpPr/>
                        <p:nvPr/>
                      </p:nvSpPr>
                      <p:spPr>
                        <a:xfrm>
                          <a:off x="7471080" y="1037160"/>
                          <a:ext cx="132120" cy="112680"/>
                        </a:xfrm>
                        <a:prstGeom prst="rect">
                          <a:avLst/>
                        </a:prstGeom>
                        <a:blipFill rotWithShape="0">
                          <a:blip r:embed="rId4"/>
                          <a:srcRect/>
                          <a:tile tx="0" ty="0" sx="100000" sy="100000" algn="ctr"/>
                        </a:blip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03" name="Group 110"/>
                    <p:cNvGrpSpPr/>
                    <p:nvPr/>
                  </p:nvGrpSpPr>
                  <p:grpSpPr>
                    <a:xfrm>
                      <a:off x="6781680" y="466200"/>
                      <a:ext cx="771840" cy="798840"/>
                      <a:chOff x="6781680" y="466200"/>
                      <a:chExt cx="771840" cy="798840"/>
                    </a:xfrm>
                  </p:grpSpPr>
                  <p:sp>
                    <p:nvSpPr>
                      <p:cNvPr id="304" name="未知"/>
                      <p:cNvSpPr/>
                      <p:nvPr/>
                    </p:nvSpPr>
                    <p:spPr>
                      <a:xfrm>
                        <a:off x="6878160" y="466200"/>
                        <a:ext cx="675360" cy="768960"/>
                      </a:xfrm>
                      <a:custGeom>
                        <a:avLst/>
                        <a:gdLst>
                          <a:gd name="textAreaLeft" fmla="*/ 0 w 675360"/>
                          <a:gd name="textAreaRight" fmla="*/ 675720 w 675360"/>
                          <a:gd name="textAreaTop" fmla="*/ 0 h 768960"/>
                          <a:gd name="textAreaBottom" fmla="*/ 769320 h 768960"/>
                        </a:gdLst>
                        <a:ahLst/>
                        <a:rect l="textAreaLeft" t="textAreaTop" r="textAreaRight" b="textAreaBottom"/>
                        <a:pathLst>
                          <a:path w="734" h="950">
                            <a:moveTo>
                              <a:pt x="0" y="0"/>
                            </a:moveTo>
                            <a:lnTo>
                              <a:pt x="476" y="844"/>
                            </a:lnTo>
                            <a:lnTo>
                              <a:pt x="521" y="897"/>
                            </a:lnTo>
                            <a:lnTo>
                              <a:pt x="570" y="925"/>
                            </a:lnTo>
                            <a:lnTo>
                              <a:pt x="594" y="950"/>
                            </a:lnTo>
                            <a:lnTo>
                              <a:pt x="636" y="950"/>
                            </a:lnTo>
                            <a:lnTo>
                              <a:pt x="734" y="608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5" name="未知"/>
                      <p:cNvSpPr/>
                      <p:nvPr/>
                    </p:nvSpPr>
                    <p:spPr>
                      <a:xfrm>
                        <a:off x="6781680" y="466200"/>
                        <a:ext cx="750960" cy="798840"/>
                      </a:xfrm>
                      <a:custGeom>
                        <a:avLst/>
                        <a:gdLst>
                          <a:gd name="textAreaLeft" fmla="*/ 0 w 750960"/>
                          <a:gd name="textAreaRight" fmla="*/ 751320 w 750960"/>
                          <a:gd name="textAreaTop" fmla="*/ 0 h 798840"/>
                          <a:gd name="textAreaBottom" fmla="*/ 799200 h 798840"/>
                        </a:gdLst>
                        <a:ahLst/>
                        <a:rect l="textAreaLeft" t="textAreaTop" r="textAreaRight" b="textAreaBottom"/>
                        <a:pathLst>
                          <a:path w="816" h="987">
                            <a:moveTo>
                              <a:pt x="0" y="0"/>
                            </a:moveTo>
                            <a:lnTo>
                              <a:pt x="479" y="854"/>
                            </a:lnTo>
                            <a:lnTo>
                              <a:pt x="512" y="900"/>
                            </a:lnTo>
                            <a:lnTo>
                              <a:pt x="550" y="939"/>
                            </a:lnTo>
                            <a:lnTo>
                              <a:pt x="590" y="967"/>
                            </a:lnTo>
                            <a:lnTo>
                              <a:pt x="631" y="984"/>
                            </a:lnTo>
                            <a:lnTo>
                              <a:pt x="669" y="987"/>
                            </a:lnTo>
                            <a:lnTo>
                              <a:pt x="703" y="976"/>
                            </a:lnTo>
                            <a:lnTo>
                              <a:pt x="816" y="574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306" name="Group 113"/>
                  <p:cNvGrpSpPr/>
                  <p:nvPr/>
                </p:nvGrpSpPr>
                <p:grpSpPr>
                  <a:xfrm>
                    <a:off x="2198520" y="217080"/>
                    <a:ext cx="1653840" cy="1337400"/>
                    <a:chOff x="2198520" y="217080"/>
                    <a:chExt cx="1653840" cy="1337400"/>
                  </a:xfrm>
                </p:grpSpPr>
                <p:sp>
                  <p:nvSpPr>
                    <p:cNvPr id="307" name="Rectangle 114"/>
                    <p:cNvSpPr/>
                    <p:nvPr/>
                  </p:nvSpPr>
                  <p:spPr>
                    <a:xfrm>
                      <a:off x="3084120" y="217080"/>
                      <a:ext cx="47520" cy="11955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8" name="Group 115"/>
                    <p:cNvGrpSpPr/>
                    <p:nvPr/>
                  </p:nvGrpSpPr>
                  <p:grpSpPr>
                    <a:xfrm>
                      <a:off x="2385000" y="480240"/>
                      <a:ext cx="933120" cy="277560"/>
                      <a:chOff x="2385000" y="480240"/>
                      <a:chExt cx="933120" cy="277560"/>
                    </a:xfrm>
                  </p:grpSpPr>
                  <p:sp>
                    <p:nvSpPr>
                      <p:cNvPr id="309" name="AutoShape 116"/>
                      <p:cNvSpPr/>
                      <p:nvPr/>
                    </p:nvSpPr>
                    <p:spPr>
                      <a:xfrm flipH="1" flipV="1" rot="538200">
                        <a:off x="2389680" y="526680"/>
                        <a:ext cx="606240" cy="114120"/>
                      </a:xfrm>
                      <a:prstGeom prst="flowChartDisplay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 rot="10800000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0" name="未知"/>
                      <p:cNvSpPr/>
                      <p:nvPr/>
                    </p:nvSpPr>
                    <p:spPr>
                      <a:xfrm flipH="1" rot="5938200">
                        <a:off x="3024000" y="441000"/>
                        <a:ext cx="145800" cy="423360"/>
                      </a:xfrm>
                      <a:custGeom>
                        <a:avLst/>
                        <a:gdLst>
                          <a:gd name="textAreaLeft" fmla="*/ -360 w 145800"/>
                          <a:gd name="textAreaRight" fmla="*/ 145800 w 145800"/>
                          <a:gd name="textAreaTop" fmla="*/ 0 h 423360"/>
                          <a:gd name="textAreaBottom" fmla="*/ 423720 h 423360"/>
                        </a:gdLst>
                        <a:ahLst/>
                        <a:rect l="textAreaLeft" t="textAreaTop" r="textAreaRight" b="textAreaBottom"/>
                        <a:pathLst>
                          <a:path w="405" h="1007">
                            <a:moveTo>
                              <a:pt x="60" y="1007"/>
                            </a:moveTo>
                            <a:lnTo>
                              <a:pt x="60" y="90"/>
                            </a:lnTo>
                            <a:lnTo>
                              <a:pt x="0" y="0"/>
                            </a:lnTo>
                            <a:lnTo>
                              <a:pt x="405" y="0"/>
                            </a:lnTo>
                            <a:lnTo>
                              <a:pt x="375" y="105"/>
                            </a:lnTo>
                            <a:lnTo>
                              <a:pt x="375" y="1007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11" name="Rectangle 118"/>
                    <p:cNvSpPr/>
                    <p:nvPr/>
                  </p:nvSpPr>
                  <p:spPr>
                    <a:xfrm>
                      <a:off x="3061440" y="1367280"/>
                      <a:ext cx="98640" cy="69480"/>
                    </a:xfrm>
                    <a:prstGeom prst="rect">
                      <a:avLst/>
                    </a:prstGeom>
                    <a:solidFill>
                      <a:srgbClr val="33333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680" bIns="22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Rectangle 119"/>
                    <p:cNvSpPr/>
                    <p:nvPr/>
                  </p:nvSpPr>
                  <p:spPr>
                    <a:xfrm>
                      <a:off x="2380320" y="1423800"/>
                      <a:ext cx="1041120" cy="774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600" bIns="30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Rectangle 120"/>
                    <p:cNvSpPr/>
                    <p:nvPr/>
                  </p:nvSpPr>
                  <p:spPr>
                    <a:xfrm>
                      <a:off x="2380680" y="1501560"/>
                      <a:ext cx="98280" cy="457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969696"/>
                        </a:gs>
                        <a:gs pos="100000">
                          <a:srgbClr val="45454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" bIns="-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Rectangle 121"/>
                    <p:cNvSpPr/>
                    <p:nvPr/>
                  </p:nvSpPr>
                  <p:spPr>
                    <a:xfrm>
                      <a:off x="3332520" y="1501560"/>
                      <a:ext cx="88920" cy="414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969696"/>
                        </a:gs>
                        <a:gs pos="100000">
                          <a:srgbClr val="45454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15" name="Group 122"/>
                    <p:cNvGrpSpPr/>
                    <p:nvPr/>
                  </p:nvGrpSpPr>
                  <p:grpSpPr>
                    <a:xfrm>
                      <a:off x="2397600" y="748440"/>
                      <a:ext cx="450360" cy="350640"/>
                      <a:chOff x="2397600" y="748440"/>
                      <a:chExt cx="450360" cy="350640"/>
                    </a:xfrm>
                  </p:grpSpPr>
                  <p:grpSp>
                    <p:nvGrpSpPr>
                      <p:cNvPr id="316" name="Group 123"/>
                      <p:cNvGrpSpPr/>
                      <p:nvPr/>
                    </p:nvGrpSpPr>
                    <p:grpSpPr>
                      <a:xfrm>
                        <a:off x="2417400" y="941400"/>
                        <a:ext cx="408960" cy="131040"/>
                        <a:chOff x="2417400" y="941400"/>
                        <a:chExt cx="408960" cy="131040"/>
                      </a:xfrm>
                    </p:grpSpPr>
                    <p:sp>
                      <p:nvSpPr>
                        <p:cNvPr id="317" name="AutoShape 124"/>
                        <p:cNvSpPr/>
                        <p:nvPr/>
                      </p:nvSpPr>
                      <p:spPr>
                        <a:xfrm>
                          <a:off x="2426400" y="952920"/>
                          <a:ext cx="396360" cy="119520"/>
                        </a:xfrm>
                        <a:custGeom>
                          <a:avLst/>
                          <a:gdLst>
                            <a:gd name="textAreaLeft" fmla="*/ 85680 w 396360"/>
                            <a:gd name="textAreaRight" fmla="*/ 310680 w 396360"/>
                            <a:gd name="textAreaTop" fmla="*/ 25560 h 119520"/>
                            <a:gd name="textAreaBottom" fmla="*/ 93960 h 11952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5760" y="21600"/>
                              </a:lnTo>
                              <a:lnTo>
                                <a:pt x="15840" y="21600"/>
                              </a:lnTo>
                              <a:lnTo>
                                <a:pt x="21600" y="0"/>
                              </a:lnTo>
                              <a:close/>
                            </a:path>
                          </a:pathLst>
                        </a:custGeom>
                        <a:blipFill rotWithShape="0">
                          <a:blip r:embed="rId5"/>
                          <a:srcRect/>
                          <a:tile tx="0" ty="0" sx="100000" sy="100000" algn="ctr"/>
                        </a:blip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8" name="Line 125"/>
                        <p:cNvSpPr/>
                        <p:nvPr/>
                      </p:nvSpPr>
                      <p:spPr>
                        <a:xfrm>
                          <a:off x="2417400" y="941400"/>
                          <a:ext cx="40896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19" name="未知"/>
                      <p:cNvSpPr/>
                      <p:nvPr/>
                    </p:nvSpPr>
                    <p:spPr>
                      <a:xfrm>
                        <a:off x="2397600" y="808920"/>
                        <a:ext cx="450360" cy="272160"/>
                      </a:xfrm>
                      <a:custGeom>
                        <a:avLst/>
                        <a:gdLst>
                          <a:gd name="textAreaLeft" fmla="*/ 0 w 450360"/>
                          <a:gd name="textAreaRight" fmla="*/ 450720 w 450360"/>
                          <a:gd name="textAreaTop" fmla="*/ 0 h 272160"/>
                          <a:gd name="textAreaBottom" fmla="*/ 272520 h 272160"/>
                        </a:gdLst>
                        <a:ahLst/>
                        <a:rect l="textAreaLeft" t="textAreaTop" r="textAreaRight" b="textAreaBottom"/>
                        <a:pathLst>
                          <a:path w="1994" h="1404">
                            <a:moveTo>
                              <a:pt x="543" y="1404"/>
                            </a:moveTo>
                            <a:lnTo>
                              <a:pt x="0" y="624"/>
                            </a:lnTo>
                            <a:lnTo>
                              <a:pt x="724" y="312"/>
                            </a:lnTo>
                            <a:lnTo>
                              <a:pt x="724" y="0"/>
                            </a:lnTo>
                            <a:lnTo>
                              <a:pt x="1267" y="0"/>
                            </a:lnTo>
                            <a:lnTo>
                              <a:pt x="1265" y="330"/>
                            </a:lnTo>
                            <a:lnTo>
                              <a:pt x="1994" y="624"/>
                            </a:lnTo>
                            <a:lnTo>
                              <a:pt x="1448" y="1404"/>
                            </a:lnTo>
                            <a:lnTo>
                              <a:pt x="543" y="1404"/>
                            </a:lnTo>
                            <a:close/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20" name="Group 127"/>
                      <p:cNvGrpSpPr/>
                      <p:nvPr/>
                    </p:nvGrpSpPr>
                    <p:grpSpPr>
                      <a:xfrm>
                        <a:off x="2540160" y="748440"/>
                        <a:ext cx="199080" cy="316800"/>
                        <a:chOff x="2540160" y="748440"/>
                        <a:chExt cx="199080" cy="316800"/>
                      </a:xfrm>
                    </p:grpSpPr>
                    <p:sp>
                      <p:nvSpPr>
                        <p:cNvPr id="321" name="AutoShape 128"/>
                        <p:cNvSpPr/>
                        <p:nvPr/>
                      </p:nvSpPr>
                      <p:spPr>
                        <a:xfrm>
                          <a:off x="2576520" y="801000"/>
                          <a:ext cx="88560" cy="57240"/>
                        </a:xfrm>
                        <a:custGeom>
                          <a:avLst/>
                          <a:gdLst>
                            <a:gd name="textAreaLeft" fmla="*/ 18360 w 88560"/>
                            <a:gd name="textAreaRight" fmla="*/ 70200 w 88560"/>
                            <a:gd name="textAreaTop" fmla="*/ 11880 h 57240"/>
                            <a:gd name="textAreaBottom" fmla="*/ 45360 h 572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5400" y="21600"/>
                              </a:lnTo>
                              <a:lnTo>
                                <a:pt x="16200" y="21600"/>
                              </a:lnTo>
                              <a:lnTo>
                                <a:pt x="21600" y="0"/>
                              </a:ln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3320" bIns="-1332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2" name="hx30Oval 20"/>
                        <p:cNvSpPr/>
                        <p:nvPr/>
                      </p:nvSpPr>
                      <p:spPr>
                        <a:xfrm>
                          <a:off x="2585520" y="770760"/>
                          <a:ext cx="74520" cy="972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960" bIns="-3996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3" name="hx30Rectangle 21"/>
                        <p:cNvSpPr/>
                        <p:nvPr/>
                      </p:nvSpPr>
                      <p:spPr>
                        <a:xfrm>
                          <a:off x="2603520" y="748440"/>
                          <a:ext cx="37080" cy="212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560" bIns="-2556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4" name="hx30Freeform 72"/>
                        <p:cNvSpPr/>
                        <p:nvPr/>
                      </p:nvSpPr>
                      <p:spPr>
                        <a:xfrm>
                          <a:off x="2549160" y="853920"/>
                          <a:ext cx="190080" cy="211320"/>
                        </a:xfrm>
                        <a:custGeom>
                          <a:avLst/>
                          <a:gdLst>
                            <a:gd name="textAreaLeft" fmla="*/ 0 w 190080"/>
                            <a:gd name="textAreaRight" fmla="*/ 190440 w 190080"/>
                            <a:gd name="textAreaTop" fmla="*/ 0 h 211320"/>
                            <a:gd name="textAreaBottom" fmla="*/ 211680 h 211320"/>
                          </a:gdLst>
                          <a:ahLst/>
                          <a:rect l="textAreaLeft" t="textAreaTop" r="textAreaRight" b="textAreaBottom"/>
                          <a:pathLst>
                            <a:path w="1830" h="3302">
                              <a:moveTo>
                                <a:pt x="840" y="0"/>
                              </a:moveTo>
                              <a:cubicBezTo>
                                <a:pt x="615" y="572"/>
                                <a:pt x="390" y="1144"/>
                                <a:pt x="480" y="1404"/>
                              </a:cubicBezTo>
                              <a:cubicBezTo>
                                <a:pt x="570" y="1664"/>
                                <a:pt x="1170" y="1456"/>
                                <a:pt x="1380" y="1560"/>
                              </a:cubicBezTo>
                              <a:cubicBezTo>
                                <a:pt x="1590" y="1664"/>
                                <a:pt x="1830" y="1872"/>
                                <a:pt x="1740" y="2028"/>
                              </a:cubicBezTo>
                              <a:cubicBezTo>
                                <a:pt x="1650" y="2184"/>
                                <a:pt x="870" y="2366"/>
                                <a:pt x="840" y="2496"/>
                              </a:cubicBezTo>
                              <a:cubicBezTo>
                                <a:pt x="810" y="2626"/>
                                <a:pt x="1410" y="2730"/>
                                <a:pt x="1560" y="2808"/>
                              </a:cubicBezTo>
                              <a:cubicBezTo>
                                <a:pt x="1710" y="2886"/>
                                <a:pt x="1740" y="2886"/>
                                <a:pt x="1740" y="2964"/>
                              </a:cubicBezTo>
                              <a:cubicBezTo>
                                <a:pt x="1740" y="3042"/>
                                <a:pt x="1680" y="3302"/>
                                <a:pt x="1560" y="3276"/>
                              </a:cubicBezTo>
                              <a:cubicBezTo>
                                <a:pt x="1440" y="3250"/>
                                <a:pt x="1170" y="2912"/>
                                <a:pt x="1020" y="2808"/>
                              </a:cubicBezTo>
                              <a:cubicBezTo>
                                <a:pt x="870" y="2704"/>
                                <a:pt x="720" y="2730"/>
                                <a:pt x="660" y="2652"/>
                              </a:cubicBezTo>
                              <a:cubicBezTo>
                                <a:pt x="600" y="2574"/>
                                <a:pt x="540" y="2470"/>
                                <a:pt x="660" y="2340"/>
                              </a:cubicBezTo>
                              <a:cubicBezTo>
                                <a:pt x="780" y="2210"/>
                                <a:pt x="1470" y="1976"/>
                                <a:pt x="1380" y="1872"/>
                              </a:cubicBezTo>
                              <a:cubicBezTo>
                                <a:pt x="1290" y="1768"/>
                                <a:pt x="240" y="2028"/>
                                <a:pt x="120" y="1716"/>
                              </a:cubicBezTo>
                              <a:cubicBezTo>
                                <a:pt x="0" y="1404"/>
                                <a:pt x="330" y="702"/>
                                <a:pt x="660" y="0"/>
                              </a:cubicBezTo>
                            </a:path>
                          </a:pathLst>
                        </a:custGeom>
                        <a:blipFill rotWithShape="0">
                          <a:blip r:embed="rId6"/>
                          <a:srcRect/>
                          <a:tile tx="0" ty="0" sx="100000" sy="100000" algn="ctr"/>
                        </a:blip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325" name="Group 132"/>
                        <p:cNvGrpSpPr/>
                        <p:nvPr/>
                      </p:nvGrpSpPr>
                      <p:grpSpPr>
                        <a:xfrm>
                          <a:off x="2540160" y="782280"/>
                          <a:ext cx="160920" cy="30240"/>
                          <a:chOff x="2540160" y="782280"/>
                          <a:chExt cx="160920" cy="30240"/>
                        </a:xfrm>
                      </p:grpSpPr>
                      <p:sp>
                        <p:nvSpPr>
                          <p:cNvPr id="326" name="Rectangle 133"/>
                          <p:cNvSpPr/>
                          <p:nvPr/>
                        </p:nvSpPr>
                        <p:spPr>
                          <a:xfrm>
                            <a:off x="2573280" y="782280"/>
                            <a:ext cx="94320" cy="1764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160" bIns="-29160" anchor="t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7" name="Rectangle 134"/>
                          <p:cNvSpPr/>
                          <p:nvPr/>
                        </p:nvSpPr>
                        <p:spPr>
                          <a:xfrm>
                            <a:off x="2540160" y="795960"/>
                            <a:ext cx="160920" cy="1656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0240" bIns="-30240" anchor="t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328" name="AutoShape 135"/>
                      <p:cNvSpPr/>
                      <p:nvPr/>
                    </p:nvSpPr>
                    <p:spPr>
                      <a:xfrm flipV="1">
                        <a:off x="2481120" y="1080360"/>
                        <a:ext cx="283320" cy="18360"/>
                      </a:xfrm>
                      <a:custGeom>
                        <a:avLst/>
                        <a:gdLst>
                          <a:gd name="textAreaLeft" fmla="*/ 50400 w 283320"/>
                          <a:gd name="textAreaRight" fmla="*/ 232920 w 283320"/>
                          <a:gd name="textAreaTop" fmla="*/ 3240 h 18360"/>
                          <a:gd name="textAreaBottom" fmla="*/ 15120 h 183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4096" y="21600"/>
                            </a:lnTo>
                            <a:lnTo>
                              <a:pt x="17504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9" name="Rectangle 136"/>
                      <p:cNvSpPr/>
                      <p:nvPr/>
                    </p:nvSpPr>
                    <p:spPr>
                      <a:xfrm>
                        <a:off x="2517480" y="1077120"/>
                        <a:ext cx="213120" cy="10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30" name="Group 137"/>
                    <p:cNvGrpSpPr/>
                    <p:nvPr/>
                  </p:nvGrpSpPr>
                  <p:grpSpPr>
                    <a:xfrm>
                      <a:off x="2512800" y="630360"/>
                      <a:ext cx="195120" cy="123480"/>
                      <a:chOff x="2512800" y="630360"/>
                      <a:chExt cx="195120" cy="123480"/>
                    </a:xfrm>
                  </p:grpSpPr>
                  <p:sp>
                    <p:nvSpPr>
                      <p:cNvPr id="331" name="未知"/>
                      <p:cNvSpPr/>
                      <p:nvPr/>
                    </p:nvSpPr>
                    <p:spPr>
                      <a:xfrm flipV="1" rot="20700000">
                        <a:off x="2579760" y="633960"/>
                        <a:ext cx="17280" cy="104400"/>
                      </a:xfrm>
                      <a:custGeom>
                        <a:avLst/>
                        <a:gdLst>
                          <a:gd name="textAreaLeft" fmla="*/ 0 w 17280"/>
                          <a:gd name="textAreaRight" fmla="*/ 17280 w 17280"/>
                          <a:gd name="textAreaTop" fmla="*/ 360 h 104400"/>
                          <a:gd name="textAreaBottom" fmla="*/ 105120 h 104400"/>
                        </a:gdLst>
                        <a:ahLst/>
                        <a:rect l="textAreaLeft" t="textAreaTop" r="textAreaRight" b="textAreaBottom"/>
                        <a:pathLst>
                          <a:path w="180" h="1248">
                            <a:moveTo>
                              <a:pt x="180" y="1248"/>
                            </a:moveTo>
                            <a:cubicBezTo>
                              <a:pt x="90" y="1170"/>
                              <a:pt x="0" y="1092"/>
                              <a:pt x="0" y="936"/>
                            </a:cubicBezTo>
                            <a:cubicBezTo>
                              <a:pt x="0" y="780"/>
                              <a:pt x="180" y="468"/>
                              <a:pt x="180" y="312"/>
                            </a:cubicBezTo>
                            <a:cubicBezTo>
                              <a:pt x="180" y="156"/>
                              <a:pt x="30" y="52"/>
                              <a:pt x="0" y="0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2" name="未知"/>
                      <p:cNvSpPr/>
                      <p:nvPr/>
                    </p:nvSpPr>
                    <p:spPr>
                      <a:xfrm>
                        <a:off x="2620440" y="634680"/>
                        <a:ext cx="4680" cy="104040"/>
                      </a:xfrm>
                      <a:custGeom>
                        <a:avLst/>
                        <a:gdLst>
                          <a:gd name="textAreaLeft" fmla="*/ 0 w 4680"/>
                          <a:gd name="textAreaRight" fmla="*/ 5040 w 4680"/>
                          <a:gd name="textAreaTop" fmla="*/ 0 h 104040"/>
                          <a:gd name="textAreaBottom" fmla="*/ 104400 h 104040"/>
                        </a:gdLst>
                        <a:ahLst/>
                        <a:rect l="textAreaLeft" t="textAreaTop" r="textAreaRight" b="textAreaBottom"/>
                        <a:pathLst>
                          <a:path w="180" h="1248">
                            <a:moveTo>
                              <a:pt x="180" y="1248"/>
                            </a:moveTo>
                            <a:cubicBezTo>
                              <a:pt x="90" y="1170"/>
                              <a:pt x="0" y="1092"/>
                              <a:pt x="0" y="936"/>
                            </a:cubicBezTo>
                            <a:cubicBezTo>
                              <a:pt x="0" y="780"/>
                              <a:pt x="180" y="468"/>
                              <a:pt x="180" y="312"/>
                            </a:cubicBezTo>
                            <a:cubicBezTo>
                              <a:pt x="180" y="156"/>
                              <a:pt x="30" y="52"/>
                              <a:pt x="0" y="0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3" name="未知"/>
                      <p:cNvSpPr/>
                      <p:nvPr/>
                    </p:nvSpPr>
                    <p:spPr>
                      <a:xfrm flipH="1" rot="20100000">
                        <a:off x="2564640" y="634680"/>
                        <a:ext cx="3600" cy="104040"/>
                      </a:xfrm>
                      <a:custGeom>
                        <a:avLst/>
                        <a:gdLst>
                          <a:gd name="textAreaLeft" fmla="*/ 360 w 3600"/>
                          <a:gd name="textAreaRight" fmla="*/ 4320 w 3600"/>
                          <a:gd name="textAreaTop" fmla="*/ 0 h 104040"/>
                          <a:gd name="textAreaBottom" fmla="*/ 104400 h 104040"/>
                        </a:gdLst>
                        <a:ahLst/>
                        <a:rect l="textAreaLeft" t="textAreaTop" r="textAreaRight" b="textAreaBottom"/>
                        <a:pathLst>
                          <a:path w="180" h="1248">
                            <a:moveTo>
                              <a:pt x="180" y="1248"/>
                            </a:moveTo>
                            <a:cubicBezTo>
                              <a:pt x="90" y="1170"/>
                              <a:pt x="0" y="1092"/>
                              <a:pt x="0" y="936"/>
                            </a:cubicBezTo>
                            <a:cubicBezTo>
                              <a:pt x="0" y="780"/>
                              <a:pt x="180" y="468"/>
                              <a:pt x="180" y="312"/>
                            </a:cubicBezTo>
                            <a:cubicBezTo>
                              <a:pt x="180" y="156"/>
                              <a:pt x="30" y="52"/>
                              <a:pt x="0" y="0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4" name="未知"/>
                      <p:cNvSpPr/>
                      <p:nvPr/>
                    </p:nvSpPr>
                    <p:spPr>
                      <a:xfrm flipH="1">
                        <a:off x="2642400" y="634680"/>
                        <a:ext cx="12600" cy="104040"/>
                      </a:xfrm>
                      <a:custGeom>
                        <a:avLst/>
                        <a:gdLst>
                          <a:gd name="textAreaLeft" fmla="*/ -360 w 12600"/>
                          <a:gd name="textAreaRight" fmla="*/ 12600 w 12600"/>
                          <a:gd name="textAreaTop" fmla="*/ 0 h 104040"/>
                          <a:gd name="textAreaBottom" fmla="*/ 104400 h 104040"/>
                        </a:gdLst>
                        <a:ahLst/>
                        <a:rect l="textAreaLeft" t="textAreaTop" r="textAreaRight" b="textAreaBottom"/>
                        <a:pathLst>
                          <a:path w="180" h="1248">
                            <a:moveTo>
                              <a:pt x="180" y="1248"/>
                            </a:moveTo>
                            <a:cubicBezTo>
                              <a:pt x="90" y="1170"/>
                              <a:pt x="0" y="1092"/>
                              <a:pt x="0" y="936"/>
                            </a:cubicBezTo>
                            <a:cubicBezTo>
                              <a:pt x="0" y="780"/>
                              <a:pt x="180" y="468"/>
                              <a:pt x="180" y="312"/>
                            </a:cubicBezTo>
                            <a:cubicBezTo>
                              <a:pt x="180" y="156"/>
                              <a:pt x="30" y="52"/>
                              <a:pt x="0" y="0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5" name="未知"/>
                      <p:cNvSpPr/>
                      <p:nvPr/>
                    </p:nvSpPr>
                    <p:spPr>
                      <a:xfrm rot="19800000">
                        <a:off x="2539800" y="634680"/>
                        <a:ext cx="9000" cy="11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0" h="1248">
                            <a:moveTo>
                              <a:pt x="180" y="1248"/>
                            </a:moveTo>
                            <a:cubicBezTo>
                              <a:pt x="90" y="1170"/>
                              <a:pt x="0" y="1092"/>
                              <a:pt x="0" y="936"/>
                            </a:cubicBezTo>
                            <a:cubicBezTo>
                              <a:pt x="0" y="780"/>
                              <a:pt x="180" y="468"/>
                              <a:pt x="180" y="312"/>
                            </a:cubicBezTo>
                            <a:cubicBezTo>
                              <a:pt x="180" y="156"/>
                              <a:pt x="30" y="52"/>
                              <a:pt x="0" y="0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6" name="未知"/>
                      <p:cNvSpPr/>
                      <p:nvPr/>
                    </p:nvSpPr>
                    <p:spPr>
                      <a:xfrm flipH="1" rot="1500000">
                        <a:off x="2674080" y="641880"/>
                        <a:ext cx="9000" cy="115560"/>
                      </a:xfrm>
                      <a:custGeom>
                        <a:avLst/>
                        <a:gdLst>
                          <a:gd name="textAreaLeft" fmla="*/ 0 w 9000"/>
                          <a:gd name="textAreaRight" fmla="*/ 9000 w 9000"/>
                          <a:gd name="textAreaTop" fmla="*/ 0 h 115560"/>
                          <a:gd name="textAreaBottom" fmla="*/ 115920 h 115560"/>
                        </a:gdLst>
                        <a:ahLst/>
                        <a:rect l="textAreaLeft" t="textAreaTop" r="textAreaRight" b="textAreaBottom"/>
                        <a:pathLst>
                          <a:path w="180" h="1248">
                            <a:moveTo>
                              <a:pt x="180" y="1248"/>
                            </a:moveTo>
                            <a:cubicBezTo>
                              <a:pt x="90" y="1170"/>
                              <a:pt x="0" y="1092"/>
                              <a:pt x="0" y="936"/>
                            </a:cubicBezTo>
                            <a:cubicBezTo>
                              <a:pt x="0" y="780"/>
                              <a:pt x="180" y="468"/>
                              <a:pt x="180" y="312"/>
                            </a:cubicBezTo>
                            <a:cubicBezTo>
                              <a:pt x="180" y="156"/>
                              <a:pt x="30" y="52"/>
                              <a:pt x="0" y="0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7" name="未知"/>
                      <p:cNvSpPr/>
                      <p:nvPr/>
                    </p:nvSpPr>
                    <p:spPr>
                      <a:xfrm flipV="1" rot="20700000">
                        <a:off x="2597040" y="630000"/>
                        <a:ext cx="10080" cy="61560"/>
                      </a:xfrm>
                      <a:custGeom>
                        <a:avLst/>
                        <a:gdLst>
                          <a:gd name="textAreaLeft" fmla="*/ 0 w 10080"/>
                          <a:gd name="textAreaRight" fmla="*/ 10440 w 10080"/>
                          <a:gd name="textAreaTop" fmla="*/ -360 h 61560"/>
                          <a:gd name="textAreaBottom" fmla="*/ 61560 h 61560"/>
                        </a:gdLst>
                        <a:ahLst/>
                        <a:rect l="textAreaLeft" t="textAreaTop" r="textAreaRight" b="textAreaBottom"/>
                        <a:pathLst>
                          <a:path w="180" h="1248">
                            <a:moveTo>
                              <a:pt x="180" y="1248"/>
                            </a:moveTo>
                            <a:cubicBezTo>
                              <a:pt x="90" y="1170"/>
                              <a:pt x="0" y="1092"/>
                              <a:pt x="0" y="936"/>
                            </a:cubicBezTo>
                            <a:cubicBezTo>
                              <a:pt x="0" y="780"/>
                              <a:pt x="180" y="468"/>
                              <a:pt x="180" y="312"/>
                            </a:cubicBezTo>
                            <a:cubicBezTo>
                              <a:pt x="180" y="156"/>
                              <a:pt x="30" y="52"/>
                              <a:pt x="0" y="0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120" bIns="1512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8" name="未知"/>
                      <p:cNvSpPr/>
                      <p:nvPr/>
                    </p:nvSpPr>
                    <p:spPr>
                      <a:xfrm flipV="1" rot="900000">
                        <a:off x="2669760" y="638640"/>
                        <a:ext cx="10080" cy="61560"/>
                      </a:xfrm>
                      <a:custGeom>
                        <a:avLst/>
                        <a:gdLst>
                          <a:gd name="textAreaLeft" fmla="*/ 0 w 10080"/>
                          <a:gd name="textAreaRight" fmla="*/ 10440 w 10080"/>
                          <a:gd name="textAreaTop" fmla="*/ -360 h 61560"/>
                          <a:gd name="textAreaBottom" fmla="*/ 61560 h 61560"/>
                        </a:gdLst>
                        <a:ahLst/>
                        <a:rect l="textAreaLeft" t="textAreaTop" r="textAreaRight" b="textAreaBottom"/>
                        <a:pathLst>
                          <a:path w="180" h="1248">
                            <a:moveTo>
                              <a:pt x="180" y="1248"/>
                            </a:moveTo>
                            <a:cubicBezTo>
                              <a:pt x="90" y="1170"/>
                              <a:pt x="0" y="1092"/>
                              <a:pt x="0" y="936"/>
                            </a:cubicBezTo>
                            <a:cubicBezTo>
                              <a:pt x="0" y="780"/>
                              <a:pt x="180" y="468"/>
                              <a:pt x="180" y="312"/>
                            </a:cubicBezTo>
                            <a:cubicBezTo>
                              <a:pt x="180" y="156"/>
                              <a:pt x="30" y="52"/>
                              <a:pt x="0" y="0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120" bIns="1512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39" name="xjhhxtx20"/>
                    <p:cNvSpPr/>
                    <p:nvPr/>
                  </p:nvSpPr>
                  <p:spPr>
                    <a:xfrm>
                      <a:off x="2432520" y="1104120"/>
                      <a:ext cx="373680" cy="324720"/>
                    </a:xfrm>
                    <a:prstGeom prst="rect">
                      <a:avLst/>
                    </a:pr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未知"/>
                    <p:cNvSpPr/>
                    <p:nvPr/>
                  </p:nvSpPr>
                  <p:spPr>
                    <a:xfrm>
                      <a:off x="2432160" y="574560"/>
                      <a:ext cx="400320" cy="108720"/>
                    </a:xfrm>
                    <a:custGeom>
                      <a:avLst/>
                      <a:gdLst>
                        <a:gd name="textAreaLeft" fmla="*/ 0 w 400320"/>
                        <a:gd name="textAreaRight" fmla="*/ 400680 w 400320"/>
                        <a:gd name="textAreaTop" fmla="*/ 0 h 108720"/>
                        <a:gd name="textAreaBottom" fmla="*/ 109080 h 108720"/>
                      </a:gdLst>
                      <a:ahLst/>
                      <a:rect l="textAreaLeft" t="textAreaTop" r="textAreaRight" b="textAreaBottom"/>
                      <a:pathLst>
                        <a:path w="688" h="218">
                          <a:moveTo>
                            <a:pt x="688" y="206"/>
                          </a:moveTo>
                          <a:cubicBezTo>
                            <a:pt x="650" y="189"/>
                            <a:pt x="523" y="117"/>
                            <a:pt x="480" y="99"/>
                          </a:cubicBezTo>
                          <a:cubicBezTo>
                            <a:pt x="437" y="81"/>
                            <a:pt x="449" y="97"/>
                            <a:pt x="427" y="98"/>
                          </a:cubicBezTo>
                          <a:cubicBezTo>
                            <a:pt x="300" y="70"/>
                            <a:pt x="281" y="36"/>
                            <a:pt x="345" y="104"/>
                          </a:cubicBezTo>
                          <a:cubicBezTo>
                            <a:pt x="286" y="121"/>
                            <a:pt x="209" y="102"/>
                            <a:pt x="319" y="140"/>
                          </a:cubicBezTo>
                          <a:cubicBezTo>
                            <a:pt x="293" y="144"/>
                            <a:pt x="180" y="130"/>
                            <a:pt x="281" y="123"/>
                          </a:cubicBezTo>
                          <a:cubicBezTo>
                            <a:pt x="416" y="138"/>
                            <a:pt x="530" y="121"/>
                            <a:pt x="657" y="178"/>
                          </a:cubicBezTo>
                          <a:cubicBezTo>
                            <a:pt x="487" y="135"/>
                            <a:pt x="534" y="141"/>
                            <a:pt x="322" y="120"/>
                          </a:cubicBezTo>
                          <a:cubicBezTo>
                            <a:pt x="294" y="117"/>
                            <a:pt x="235" y="124"/>
                            <a:pt x="204" y="126"/>
                          </a:cubicBezTo>
                          <a:cubicBezTo>
                            <a:pt x="176" y="127"/>
                            <a:pt x="117" y="111"/>
                            <a:pt x="117" y="111"/>
                          </a:cubicBezTo>
                          <a:cubicBezTo>
                            <a:pt x="32" y="88"/>
                            <a:pt x="36" y="78"/>
                            <a:pt x="0" y="18"/>
                          </a:cubicBezTo>
                          <a:cubicBezTo>
                            <a:pt x="93" y="45"/>
                            <a:pt x="100" y="51"/>
                            <a:pt x="158" y="72"/>
                          </a:cubicBezTo>
                          <a:cubicBezTo>
                            <a:pt x="196" y="85"/>
                            <a:pt x="273" y="112"/>
                            <a:pt x="273" y="112"/>
                          </a:cubicBezTo>
                          <a:cubicBezTo>
                            <a:pt x="217" y="108"/>
                            <a:pt x="38" y="91"/>
                            <a:pt x="81" y="60"/>
                          </a:cubicBezTo>
                          <a:cubicBezTo>
                            <a:pt x="133" y="66"/>
                            <a:pt x="65" y="61"/>
                            <a:pt x="118" y="65"/>
                          </a:cubicBezTo>
                          <a:cubicBezTo>
                            <a:pt x="135" y="66"/>
                            <a:pt x="158" y="76"/>
                            <a:pt x="169" y="64"/>
                          </a:cubicBezTo>
                          <a:cubicBezTo>
                            <a:pt x="178" y="55"/>
                            <a:pt x="210" y="50"/>
                            <a:pt x="201" y="42"/>
                          </a:cubicBezTo>
                          <a:cubicBezTo>
                            <a:pt x="219" y="41"/>
                            <a:pt x="324" y="29"/>
                            <a:pt x="337" y="31"/>
                          </a:cubicBezTo>
                          <a:cubicBezTo>
                            <a:pt x="362" y="36"/>
                            <a:pt x="379" y="61"/>
                            <a:pt x="401" y="73"/>
                          </a:cubicBezTo>
                          <a:cubicBezTo>
                            <a:pt x="342" y="60"/>
                            <a:pt x="282" y="50"/>
                            <a:pt x="225" y="33"/>
                          </a:cubicBezTo>
                          <a:cubicBezTo>
                            <a:pt x="212" y="28"/>
                            <a:pt x="253" y="27"/>
                            <a:pt x="266" y="29"/>
                          </a:cubicBezTo>
                          <a:cubicBezTo>
                            <a:pt x="280" y="32"/>
                            <a:pt x="272" y="77"/>
                            <a:pt x="285" y="81"/>
                          </a:cubicBezTo>
                          <a:cubicBezTo>
                            <a:pt x="423" y="131"/>
                            <a:pt x="344" y="23"/>
                            <a:pt x="435" y="78"/>
                          </a:cubicBezTo>
                          <a:cubicBezTo>
                            <a:pt x="453" y="89"/>
                            <a:pt x="463" y="124"/>
                            <a:pt x="463" y="124"/>
                          </a:cubicBezTo>
                          <a:cubicBezTo>
                            <a:pt x="458" y="122"/>
                            <a:pt x="385" y="104"/>
                            <a:pt x="368" y="87"/>
                          </a:cubicBezTo>
                          <a:cubicBezTo>
                            <a:pt x="367" y="87"/>
                            <a:pt x="322" y="32"/>
                            <a:pt x="317" y="28"/>
                          </a:cubicBezTo>
                          <a:cubicBezTo>
                            <a:pt x="395" y="22"/>
                            <a:pt x="460" y="65"/>
                            <a:pt x="529" y="95"/>
                          </a:cubicBezTo>
                          <a:cubicBezTo>
                            <a:pt x="558" y="108"/>
                            <a:pt x="585" y="125"/>
                            <a:pt x="613" y="140"/>
                          </a:cubicBezTo>
                          <a:cubicBezTo>
                            <a:pt x="622" y="144"/>
                            <a:pt x="641" y="154"/>
                            <a:pt x="641" y="154"/>
                          </a:cubicBezTo>
                          <a:cubicBezTo>
                            <a:pt x="476" y="218"/>
                            <a:pt x="332" y="122"/>
                            <a:pt x="192" y="47"/>
                          </a:cubicBezTo>
                          <a:cubicBezTo>
                            <a:pt x="108" y="45"/>
                            <a:pt x="89" y="50"/>
                            <a:pt x="3" y="25"/>
                          </a:cubicBezTo>
                          <a:cubicBezTo>
                            <a:pt x="87" y="0"/>
                            <a:pt x="130" y="13"/>
                            <a:pt x="227" y="23"/>
                          </a:cubicBezTo>
                          <a:cubicBezTo>
                            <a:pt x="445" y="66"/>
                            <a:pt x="535" y="39"/>
                            <a:pt x="660" y="158"/>
                          </a:cubicBezTo>
                          <a:cubicBezTo>
                            <a:pt x="605" y="175"/>
                            <a:pt x="587" y="176"/>
                            <a:pt x="527" y="165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Rectangle 148"/>
                    <p:cNvSpPr/>
                    <p:nvPr/>
                  </p:nvSpPr>
                  <p:spPr>
                    <a:xfrm>
                      <a:off x="3052440" y="548640"/>
                      <a:ext cx="112320" cy="58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Rectangle 149"/>
                    <p:cNvSpPr/>
                    <p:nvPr/>
                  </p:nvSpPr>
                  <p:spPr>
                    <a:xfrm>
                      <a:off x="3052440" y="686880"/>
                      <a:ext cx="112320" cy="58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Line 150"/>
                    <p:cNvSpPr/>
                    <p:nvPr/>
                  </p:nvSpPr>
                  <p:spPr>
                    <a:xfrm flipH="1">
                      <a:off x="2198520" y="1554480"/>
                      <a:ext cx="15404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Line 151"/>
                    <p:cNvSpPr/>
                    <p:nvPr/>
                  </p:nvSpPr>
                  <p:spPr>
                    <a:xfrm>
                      <a:off x="2501280" y="494640"/>
                      <a:ext cx="1345320" cy="2131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Line 152"/>
                    <p:cNvSpPr/>
                    <p:nvPr/>
                  </p:nvSpPr>
                  <p:spPr>
                    <a:xfrm>
                      <a:off x="2501280" y="518760"/>
                      <a:ext cx="1345320" cy="2131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Line 153"/>
                    <p:cNvSpPr/>
                    <p:nvPr/>
                  </p:nvSpPr>
                  <p:spPr>
                    <a:xfrm flipH="1">
                      <a:off x="3847320" y="691200"/>
                      <a:ext cx="5040" cy="313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Line 154"/>
                    <p:cNvSpPr/>
                    <p:nvPr/>
                  </p:nvSpPr>
                  <p:spPr>
                    <a:xfrm flipH="1">
                      <a:off x="2495880" y="505080"/>
                      <a:ext cx="5040" cy="313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8" name="Group 155"/>
                  <p:cNvGrpSpPr/>
                  <p:nvPr/>
                </p:nvGrpSpPr>
                <p:grpSpPr>
                  <a:xfrm>
                    <a:off x="5801400" y="499320"/>
                    <a:ext cx="869040" cy="906840"/>
                    <a:chOff x="5801400" y="499320"/>
                    <a:chExt cx="869040" cy="906840"/>
                  </a:xfrm>
                </p:grpSpPr>
                <p:grpSp>
                  <p:nvGrpSpPr>
                    <p:cNvPr id="349" name="Group 156"/>
                    <p:cNvGrpSpPr/>
                    <p:nvPr/>
                  </p:nvGrpSpPr>
                  <p:grpSpPr>
                    <a:xfrm>
                      <a:off x="5801400" y="499320"/>
                      <a:ext cx="869040" cy="906840"/>
                      <a:chOff x="5801400" y="499320"/>
                      <a:chExt cx="869040" cy="906840"/>
                    </a:xfrm>
                  </p:grpSpPr>
                  <p:grpSp>
                    <p:nvGrpSpPr>
                      <p:cNvPr id="350" name="Group 157"/>
                      <p:cNvGrpSpPr/>
                      <p:nvPr/>
                    </p:nvGrpSpPr>
                    <p:grpSpPr>
                      <a:xfrm>
                        <a:off x="6234480" y="697320"/>
                        <a:ext cx="435960" cy="708840"/>
                        <a:chOff x="6234480" y="697320"/>
                        <a:chExt cx="435960" cy="708840"/>
                      </a:xfrm>
                    </p:grpSpPr>
                    <p:sp>
                      <p:nvSpPr>
                        <p:cNvPr id="351" name="AutoShape 158"/>
                        <p:cNvSpPr/>
                        <p:nvPr/>
                      </p:nvSpPr>
                      <p:spPr>
                        <a:xfrm>
                          <a:off x="6234480" y="851040"/>
                          <a:ext cx="435960" cy="555120"/>
                        </a:xfrm>
                        <a:custGeom>
                          <a:avLst/>
                          <a:gdLst>
                            <a:gd name="textAreaLeft" fmla="*/ 21240 w 435960"/>
                            <a:gd name="textAreaRight" fmla="*/ 414720 w 435960"/>
                            <a:gd name="textAreaTop" fmla="*/ 21240 h 555120"/>
                            <a:gd name="textAreaBottom" fmla="*/ 533880 h 555120"/>
                          </a:gdLst>
                          <a:ahLst/>
                          <a:rect l="textAreaLeft" t="textAreaTop" r="textAreaRight" b="textAreaBottom"/>
                          <a:pathLst>
                            <a:path w="21600" h="27499">
                              <a:moveTo>
                                <a:pt x="3600" y="0"/>
                              </a:moveTo>
                              <a:arcTo wR="3600" hR="3600" stAng="16200000" swAng="-5400000"/>
                              <a:lnTo>
                                <a:pt x="0" y="23899"/>
                              </a:lnTo>
                              <a:arcTo wR="3600" hR="3600" stAng="10800000" swAng="-5400000"/>
                              <a:lnTo>
                                <a:pt x="18000" y="27499"/>
                              </a:lnTo>
                              <a:arcTo wR="3600" hR="3600" stAng="5400000" swAng="-5400000"/>
                              <a:lnTo>
                                <a:pt x="21600" y="3600"/>
                              </a:lnTo>
                              <a:arcTo wR="3600" hR="3600" stAng="0" swAng="-5400000"/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2" name="未知"/>
                        <p:cNvSpPr/>
                        <p:nvPr/>
                      </p:nvSpPr>
                      <p:spPr>
                        <a:xfrm>
                          <a:off x="6277320" y="697320"/>
                          <a:ext cx="352080" cy="160920"/>
                        </a:xfrm>
                        <a:custGeom>
                          <a:avLst/>
                          <a:gdLst>
                            <a:gd name="textAreaLeft" fmla="*/ 0 w 352080"/>
                            <a:gd name="textAreaRight" fmla="*/ 352440 w 352080"/>
                            <a:gd name="textAreaTop" fmla="*/ 0 h 160920"/>
                            <a:gd name="textAreaBottom" fmla="*/ 161280 h 160920"/>
                          </a:gdLst>
                          <a:ahLst/>
                          <a:rect l="textAreaLeft" t="textAreaTop" r="textAreaRight" b="textAreaBottom"/>
                          <a:pathLst>
                            <a:path w="474" h="235">
                              <a:moveTo>
                                <a:pt x="0" y="235"/>
                              </a:moveTo>
                              <a:lnTo>
                                <a:pt x="102" y="180"/>
                              </a:lnTo>
                              <a:lnTo>
                                <a:pt x="105" y="54"/>
                              </a:lnTo>
                              <a:lnTo>
                                <a:pt x="57" y="0"/>
                              </a:lnTo>
                              <a:lnTo>
                                <a:pt x="420" y="0"/>
                              </a:lnTo>
                              <a:lnTo>
                                <a:pt x="375" y="51"/>
                              </a:lnTo>
                              <a:lnTo>
                                <a:pt x="372" y="180"/>
                              </a:lnTo>
                              <a:lnTo>
                                <a:pt x="474" y="235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53" name="Group 160"/>
                      <p:cNvGrpSpPr/>
                      <p:nvPr/>
                    </p:nvGrpSpPr>
                    <p:grpSpPr>
                      <a:xfrm>
                        <a:off x="5801400" y="499320"/>
                        <a:ext cx="666000" cy="164880"/>
                        <a:chOff x="5801400" y="499320"/>
                        <a:chExt cx="666000" cy="164880"/>
                      </a:xfrm>
                    </p:grpSpPr>
                    <p:sp>
                      <p:nvSpPr>
                        <p:cNvPr id="354" name="未知"/>
                        <p:cNvSpPr/>
                        <p:nvPr/>
                      </p:nvSpPr>
                      <p:spPr>
                        <a:xfrm flipH="1">
                          <a:off x="6167160" y="525240"/>
                          <a:ext cx="271800" cy="138960"/>
                        </a:xfrm>
                        <a:custGeom>
                          <a:avLst/>
                          <a:gdLst>
                            <a:gd name="textAreaLeft" fmla="*/ -360 w 271800"/>
                            <a:gd name="textAreaRight" fmla="*/ 271800 w 271800"/>
                            <a:gd name="textAreaTop" fmla="*/ 0 h 138960"/>
                            <a:gd name="textAreaBottom" fmla="*/ 139320 h 138960"/>
                          </a:gdLst>
                          <a:ahLst/>
                          <a:rect l="textAreaLeft" t="textAreaTop" r="textAreaRight" b="textAreaBottom"/>
                          <a:pathLst>
                            <a:path w="349" h="193">
                              <a:moveTo>
                                <a:pt x="349" y="1"/>
                              </a:moveTo>
                              <a:lnTo>
                                <a:pt x="59" y="0"/>
                              </a:lnTo>
                              <a:lnTo>
                                <a:pt x="29" y="8"/>
                              </a:lnTo>
                              <a:lnTo>
                                <a:pt x="8" y="29"/>
                              </a:lnTo>
                              <a:lnTo>
                                <a:pt x="0" y="59"/>
                              </a:lnTo>
                              <a:lnTo>
                                <a:pt x="1" y="193"/>
                              </a:ln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5" name="未知"/>
                        <p:cNvSpPr/>
                        <p:nvPr/>
                      </p:nvSpPr>
                      <p:spPr>
                        <a:xfrm flipH="1">
                          <a:off x="6165000" y="499320"/>
                          <a:ext cx="302040" cy="156240"/>
                        </a:xfrm>
                        <a:custGeom>
                          <a:avLst/>
                          <a:gdLst>
                            <a:gd name="textAreaLeft" fmla="*/ -360 w 302040"/>
                            <a:gd name="textAreaRight" fmla="*/ 302040 w 302040"/>
                            <a:gd name="textAreaTop" fmla="*/ 0 h 156240"/>
                            <a:gd name="textAreaBottom" fmla="*/ 156600 h 156240"/>
                          </a:gdLst>
                          <a:ahLst/>
                          <a:rect l="textAreaLeft" t="textAreaTop" r="textAreaRight" b="textAreaBottom"/>
                          <a:pathLst>
                            <a:path w="388" h="217">
                              <a:moveTo>
                                <a:pt x="388" y="0"/>
                              </a:moveTo>
                              <a:lnTo>
                                <a:pt x="94" y="0"/>
                              </a:lnTo>
                              <a:lnTo>
                                <a:pt x="70" y="3"/>
                              </a:lnTo>
                              <a:lnTo>
                                <a:pt x="47" y="13"/>
                              </a:lnTo>
                              <a:lnTo>
                                <a:pt x="27" y="27"/>
                              </a:lnTo>
                              <a:lnTo>
                                <a:pt x="13" y="47"/>
                              </a:lnTo>
                              <a:lnTo>
                                <a:pt x="3" y="70"/>
                              </a:lnTo>
                              <a:lnTo>
                                <a:pt x="0" y="94"/>
                              </a:lnTo>
                              <a:lnTo>
                                <a:pt x="1" y="217"/>
                              </a:ln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6" name="Line 163"/>
                        <p:cNvSpPr/>
                        <p:nvPr/>
                      </p:nvSpPr>
                      <p:spPr>
                        <a:xfrm>
                          <a:off x="5801400" y="525240"/>
                          <a:ext cx="4759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7" name="Line 164"/>
                        <p:cNvSpPr/>
                        <p:nvPr/>
                      </p:nvSpPr>
                      <p:spPr>
                        <a:xfrm>
                          <a:off x="5806080" y="500760"/>
                          <a:ext cx="4759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58" name="Group 165"/>
                    <p:cNvGrpSpPr/>
                    <p:nvPr/>
                  </p:nvGrpSpPr>
                  <p:grpSpPr>
                    <a:xfrm>
                      <a:off x="6262200" y="679680"/>
                      <a:ext cx="360720" cy="628560"/>
                      <a:chOff x="6262200" y="679680"/>
                      <a:chExt cx="360720" cy="628560"/>
                    </a:xfrm>
                  </p:grpSpPr>
                  <p:grpSp>
                    <p:nvGrpSpPr>
                      <p:cNvPr id="359" name="Group 166"/>
                      <p:cNvGrpSpPr/>
                      <p:nvPr/>
                    </p:nvGrpSpPr>
                    <p:grpSpPr>
                      <a:xfrm>
                        <a:off x="6429600" y="725400"/>
                        <a:ext cx="29160" cy="582840"/>
                        <a:chOff x="6429600" y="725400"/>
                        <a:chExt cx="29160" cy="582840"/>
                      </a:xfrm>
                    </p:grpSpPr>
                    <p:sp>
                      <p:nvSpPr>
                        <p:cNvPr id="360" name="Line 167"/>
                        <p:cNvSpPr/>
                        <p:nvPr/>
                      </p:nvSpPr>
                      <p:spPr>
                        <a:xfrm flipV="1">
                          <a:off x="6429600" y="725400"/>
                          <a:ext cx="0" cy="582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1" name="Line 168"/>
                        <p:cNvSpPr/>
                        <p:nvPr/>
                      </p:nvSpPr>
                      <p:spPr>
                        <a:xfrm flipV="1">
                          <a:off x="6458760" y="725400"/>
                          <a:ext cx="0" cy="582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62" name="Rectangle 169"/>
                      <p:cNvSpPr/>
                      <p:nvPr/>
                    </p:nvSpPr>
                    <p:spPr>
                      <a:xfrm>
                        <a:off x="6262200" y="679680"/>
                        <a:ext cx="360720" cy="194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63" name="Line 170"/>
                    <p:cNvSpPr/>
                    <p:nvPr/>
                  </p:nvSpPr>
                  <p:spPr>
                    <a:xfrm>
                      <a:off x="6305760" y="711000"/>
                      <a:ext cx="186480" cy="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4" name="Group 171"/>
                  <p:cNvGrpSpPr/>
                  <p:nvPr/>
                </p:nvGrpSpPr>
                <p:grpSpPr>
                  <a:xfrm>
                    <a:off x="4766040" y="567000"/>
                    <a:ext cx="869040" cy="906840"/>
                    <a:chOff x="4766040" y="567000"/>
                    <a:chExt cx="869040" cy="906840"/>
                  </a:xfrm>
                </p:grpSpPr>
                <p:grpSp>
                  <p:nvGrpSpPr>
                    <p:cNvPr id="365" name="Group 172"/>
                    <p:cNvGrpSpPr/>
                    <p:nvPr/>
                  </p:nvGrpSpPr>
                  <p:grpSpPr>
                    <a:xfrm>
                      <a:off x="4766040" y="567000"/>
                      <a:ext cx="869040" cy="906840"/>
                      <a:chOff x="4766040" y="567000"/>
                      <a:chExt cx="869040" cy="906840"/>
                    </a:xfrm>
                  </p:grpSpPr>
                  <p:grpSp>
                    <p:nvGrpSpPr>
                      <p:cNvPr id="366" name="Group 173"/>
                      <p:cNvGrpSpPr/>
                      <p:nvPr/>
                    </p:nvGrpSpPr>
                    <p:grpSpPr>
                      <a:xfrm>
                        <a:off x="5199120" y="567000"/>
                        <a:ext cx="435960" cy="708840"/>
                        <a:chOff x="5199120" y="567000"/>
                        <a:chExt cx="435960" cy="708840"/>
                      </a:xfrm>
                    </p:grpSpPr>
                    <p:sp>
                      <p:nvSpPr>
                        <p:cNvPr id="367" name="AutoShape 174"/>
                        <p:cNvSpPr/>
                        <p:nvPr/>
                      </p:nvSpPr>
                      <p:spPr>
                        <a:xfrm flipV="1">
                          <a:off x="5199120" y="567000"/>
                          <a:ext cx="435960" cy="555120"/>
                        </a:xfrm>
                        <a:custGeom>
                          <a:avLst/>
                          <a:gdLst>
                            <a:gd name="textAreaLeft" fmla="*/ 21240 w 435960"/>
                            <a:gd name="textAreaRight" fmla="*/ 414720 w 435960"/>
                            <a:gd name="textAreaTop" fmla="*/ 21240 h 555120"/>
                            <a:gd name="textAreaBottom" fmla="*/ 533880 h 555120"/>
                          </a:gdLst>
                          <a:ahLst/>
                          <a:rect l="textAreaLeft" t="textAreaTop" r="textAreaRight" b="textAreaBottom"/>
                          <a:pathLst>
                            <a:path w="21600" h="27499">
                              <a:moveTo>
                                <a:pt x="3600" y="0"/>
                              </a:moveTo>
                              <a:arcTo wR="3600" hR="3600" stAng="16200000" swAng="-5400000"/>
                              <a:lnTo>
                                <a:pt x="0" y="23899"/>
                              </a:lnTo>
                              <a:arcTo wR="3600" hR="3600" stAng="10800000" swAng="-5400000"/>
                              <a:lnTo>
                                <a:pt x="18000" y="27499"/>
                              </a:lnTo>
                              <a:arcTo wR="3600" hR="3600" stAng="5400000" swAng="-5400000"/>
                              <a:lnTo>
                                <a:pt x="21600" y="3600"/>
                              </a:lnTo>
                              <a:arcTo wR="3600" hR="3600" stAng="0" swAng="-5400000"/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 rot="10800000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8" name="未知"/>
                        <p:cNvSpPr/>
                        <p:nvPr/>
                      </p:nvSpPr>
                      <p:spPr>
                        <a:xfrm flipV="1">
                          <a:off x="5241960" y="1114560"/>
                          <a:ext cx="352080" cy="160920"/>
                        </a:xfrm>
                        <a:custGeom>
                          <a:avLst/>
                          <a:gdLst>
                            <a:gd name="textAreaLeft" fmla="*/ 0 w 352080"/>
                            <a:gd name="textAreaRight" fmla="*/ 352440 w 352080"/>
                            <a:gd name="textAreaTop" fmla="*/ -360 h 160920"/>
                            <a:gd name="textAreaBottom" fmla="*/ 160920 h 160920"/>
                          </a:gdLst>
                          <a:ahLst/>
                          <a:rect l="textAreaLeft" t="textAreaTop" r="textAreaRight" b="textAreaBottom"/>
                          <a:pathLst>
                            <a:path w="474" h="235">
                              <a:moveTo>
                                <a:pt x="0" y="235"/>
                              </a:moveTo>
                              <a:lnTo>
                                <a:pt x="102" y="180"/>
                              </a:lnTo>
                              <a:lnTo>
                                <a:pt x="105" y="54"/>
                              </a:lnTo>
                              <a:lnTo>
                                <a:pt x="57" y="0"/>
                              </a:lnTo>
                              <a:lnTo>
                                <a:pt x="420" y="0"/>
                              </a:lnTo>
                              <a:lnTo>
                                <a:pt x="375" y="51"/>
                              </a:lnTo>
                              <a:lnTo>
                                <a:pt x="372" y="180"/>
                              </a:lnTo>
                              <a:lnTo>
                                <a:pt x="474" y="235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69" name="Group 176"/>
                      <p:cNvGrpSpPr/>
                      <p:nvPr/>
                    </p:nvGrpSpPr>
                    <p:grpSpPr>
                      <a:xfrm>
                        <a:off x="4766040" y="1308960"/>
                        <a:ext cx="666000" cy="164880"/>
                        <a:chOff x="4766040" y="1308960"/>
                        <a:chExt cx="666000" cy="164880"/>
                      </a:xfrm>
                    </p:grpSpPr>
                    <p:sp>
                      <p:nvSpPr>
                        <p:cNvPr id="370" name="未知"/>
                        <p:cNvSpPr/>
                        <p:nvPr/>
                      </p:nvSpPr>
                      <p:spPr>
                        <a:xfrm flipH="1" flipV="1">
                          <a:off x="5131800" y="1308960"/>
                          <a:ext cx="271800" cy="138960"/>
                        </a:xfrm>
                        <a:custGeom>
                          <a:avLst/>
                          <a:gdLst>
                            <a:gd name="textAreaLeft" fmla="*/ -360 w 271800"/>
                            <a:gd name="textAreaRight" fmla="*/ 271800 w 271800"/>
                            <a:gd name="textAreaTop" fmla="*/ 360 h 138960"/>
                            <a:gd name="textAreaBottom" fmla="*/ 139680 h 138960"/>
                          </a:gdLst>
                          <a:ahLst/>
                          <a:rect l="textAreaLeft" t="textAreaTop" r="textAreaRight" b="textAreaBottom"/>
                          <a:pathLst>
                            <a:path w="349" h="193">
                              <a:moveTo>
                                <a:pt x="349" y="1"/>
                              </a:moveTo>
                              <a:lnTo>
                                <a:pt x="59" y="0"/>
                              </a:lnTo>
                              <a:lnTo>
                                <a:pt x="29" y="8"/>
                              </a:lnTo>
                              <a:lnTo>
                                <a:pt x="8" y="29"/>
                              </a:lnTo>
                              <a:lnTo>
                                <a:pt x="0" y="59"/>
                              </a:lnTo>
                              <a:lnTo>
                                <a:pt x="1" y="193"/>
                              </a:ln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1" name="未知"/>
                        <p:cNvSpPr/>
                        <p:nvPr/>
                      </p:nvSpPr>
                      <p:spPr>
                        <a:xfrm flipH="1" flipV="1">
                          <a:off x="5129640" y="1317600"/>
                          <a:ext cx="302040" cy="156240"/>
                        </a:xfrm>
                        <a:custGeom>
                          <a:avLst/>
                          <a:gdLst>
                            <a:gd name="textAreaLeft" fmla="*/ -360 w 302040"/>
                            <a:gd name="textAreaRight" fmla="*/ 302040 w 302040"/>
                            <a:gd name="textAreaTop" fmla="*/ 360 h 156240"/>
                            <a:gd name="textAreaBottom" fmla="*/ 156960 h 156240"/>
                          </a:gdLst>
                          <a:ahLst/>
                          <a:rect l="textAreaLeft" t="textAreaTop" r="textAreaRight" b="textAreaBottom"/>
                          <a:pathLst>
                            <a:path w="388" h="217">
                              <a:moveTo>
                                <a:pt x="388" y="0"/>
                              </a:moveTo>
                              <a:lnTo>
                                <a:pt x="94" y="0"/>
                              </a:lnTo>
                              <a:lnTo>
                                <a:pt x="70" y="3"/>
                              </a:lnTo>
                              <a:lnTo>
                                <a:pt x="47" y="13"/>
                              </a:lnTo>
                              <a:lnTo>
                                <a:pt x="27" y="27"/>
                              </a:lnTo>
                              <a:lnTo>
                                <a:pt x="13" y="47"/>
                              </a:lnTo>
                              <a:lnTo>
                                <a:pt x="3" y="70"/>
                              </a:lnTo>
                              <a:lnTo>
                                <a:pt x="0" y="94"/>
                              </a:lnTo>
                              <a:lnTo>
                                <a:pt x="1" y="217"/>
                              </a:ln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2" name="Line 179"/>
                        <p:cNvSpPr/>
                        <p:nvPr/>
                      </p:nvSpPr>
                      <p:spPr>
                        <a:xfrm>
                          <a:off x="4766040" y="1447920"/>
                          <a:ext cx="4759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3" name="Line 180"/>
                        <p:cNvSpPr/>
                        <p:nvPr/>
                      </p:nvSpPr>
                      <p:spPr>
                        <a:xfrm>
                          <a:off x="4770720" y="1472400"/>
                          <a:ext cx="4759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74" name="Group 181"/>
                    <p:cNvGrpSpPr/>
                    <p:nvPr/>
                  </p:nvGrpSpPr>
                  <p:grpSpPr>
                    <a:xfrm>
                      <a:off x="5226840" y="664920"/>
                      <a:ext cx="360720" cy="628560"/>
                      <a:chOff x="5226840" y="664920"/>
                      <a:chExt cx="360720" cy="628560"/>
                    </a:xfrm>
                  </p:grpSpPr>
                  <p:grpSp>
                    <p:nvGrpSpPr>
                      <p:cNvPr id="375" name="Group 182"/>
                      <p:cNvGrpSpPr/>
                      <p:nvPr/>
                    </p:nvGrpSpPr>
                    <p:grpSpPr>
                      <a:xfrm>
                        <a:off x="5394240" y="664920"/>
                        <a:ext cx="29160" cy="582840"/>
                        <a:chOff x="5394240" y="664920"/>
                        <a:chExt cx="29160" cy="582840"/>
                      </a:xfrm>
                    </p:grpSpPr>
                    <p:sp>
                      <p:nvSpPr>
                        <p:cNvPr id="376" name="Line 183"/>
                        <p:cNvSpPr/>
                        <p:nvPr/>
                      </p:nvSpPr>
                      <p:spPr>
                        <a:xfrm>
                          <a:off x="5394240" y="664920"/>
                          <a:ext cx="0" cy="582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7" name="Line 184"/>
                        <p:cNvSpPr/>
                        <p:nvPr/>
                      </p:nvSpPr>
                      <p:spPr>
                        <a:xfrm>
                          <a:off x="5423400" y="664920"/>
                          <a:ext cx="0" cy="582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78" name="Rectangle 185"/>
                      <p:cNvSpPr/>
                      <p:nvPr/>
                    </p:nvSpPr>
                    <p:spPr>
                      <a:xfrm flipV="1">
                        <a:off x="5226840" y="1274040"/>
                        <a:ext cx="360720" cy="194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 rot="10800000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79" name="Line 186"/>
                    <p:cNvSpPr/>
                    <p:nvPr/>
                  </p:nvSpPr>
                  <p:spPr>
                    <a:xfrm>
                      <a:off x="5270400" y="1262160"/>
                      <a:ext cx="186480" cy="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0" name="Rectangle 187"/>
                  <p:cNvSpPr/>
                  <p:nvPr/>
                </p:nvSpPr>
                <p:spPr>
                  <a:xfrm>
                    <a:off x="7461720" y="930240"/>
                    <a:ext cx="131400" cy="115560"/>
                  </a:xfrm>
                  <a:prstGeom prst="rect">
                    <a:avLst/>
                  </a:prstGeom>
                  <a:blipFill rotWithShape="0">
                    <a:blip r:embed="rId8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381" name="Object 188"/>
                  <p:cNvGraphicFramePr/>
                  <p:nvPr/>
                </p:nvGraphicFramePr>
                <p:xfrm>
                  <a:off x="3788640" y="275400"/>
                  <a:ext cx="911160" cy="1323360"/>
                </p:xfrm>
                <a:graphic>
                  <a:graphicData uri="http://schemas.openxmlformats.org/presentationml/2006/ole">
                    <p:oleObj r:id="rId9" spid="">
                      <p:embed/>
                      <p:pic>
                        <p:nvPicPr>
                          <p:cNvPr id="382" name="Object 188" descr=""/>
                          <p:cNvPicPr/>
                          <p:nvPr/>
                        </p:nvPicPr>
                        <p:blipFill>
                          <a:blip r:embed="rId10"/>
                          <a:stretch/>
                        </p:blipFill>
                        <p:spPr>
                          <a:xfrm>
                            <a:off x="3788640" y="275400"/>
                            <a:ext cx="911160" cy="132336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383" name="Text Box 189"/>
                  <p:cNvSpPr/>
                  <p:nvPr/>
                </p:nvSpPr>
                <p:spPr>
                  <a:xfrm>
                    <a:off x="4575600" y="519480"/>
                    <a:ext cx="538200" cy="3157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384" name="Object 190"/>
                  <p:cNvGraphicFramePr/>
                  <p:nvPr/>
                </p:nvGraphicFramePr>
                <p:xfrm>
                  <a:off x="6693120" y="386280"/>
                  <a:ext cx="1546920" cy="1044000"/>
                </p:xfrm>
                <a:graphic>
                  <a:graphicData uri="http://schemas.openxmlformats.org/presentationml/2006/ole">
                    <p:oleObj r:id="rId11" spid="">
                      <p:embed/>
                      <p:pic>
                        <p:nvPicPr>
                          <p:cNvPr id="385" name="Object 190" descr=""/>
                          <p:cNvPicPr/>
                          <p:nvPr/>
                        </p:nvPicPr>
                        <p:blipFill>
                          <a:blip r:embed="rId12"/>
                          <a:stretch/>
                        </p:blipFill>
                        <p:spPr>
                          <a:xfrm>
                            <a:off x="6693120" y="386280"/>
                            <a:ext cx="1546920" cy="10440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sp>
              <p:nvSpPr>
                <p:cNvPr id="386" name="Text Box 191"/>
                <p:cNvSpPr/>
                <p:nvPr/>
              </p:nvSpPr>
              <p:spPr>
                <a:xfrm>
                  <a:off x="2198520" y="91080"/>
                  <a:ext cx="1656360" cy="1515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7" name="Group 192"/>
              <p:cNvGrpSpPr/>
              <p:nvPr/>
            </p:nvGrpSpPr>
            <p:grpSpPr>
              <a:xfrm>
                <a:off x="2198520" y="0"/>
                <a:ext cx="1256040" cy="1479600"/>
                <a:chOff x="2198520" y="0"/>
                <a:chExt cx="1256040" cy="1479600"/>
              </a:xfrm>
            </p:grpSpPr>
            <p:grpSp>
              <p:nvGrpSpPr>
                <p:cNvPr id="388" name="Group 193"/>
                <p:cNvGrpSpPr/>
                <p:nvPr/>
              </p:nvGrpSpPr>
              <p:grpSpPr>
                <a:xfrm>
                  <a:off x="2198520" y="0"/>
                  <a:ext cx="1256040" cy="1479600"/>
                  <a:chOff x="2198520" y="0"/>
                  <a:chExt cx="1256040" cy="1479600"/>
                </a:xfrm>
              </p:grpSpPr>
              <p:grpSp>
                <p:nvGrpSpPr>
                  <p:cNvPr id="389" name="Group 194"/>
                  <p:cNvGrpSpPr/>
                  <p:nvPr/>
                </p:nvGrpSpPr>
                <p:grpSpPr>
                  <a:xfrm>
                    <a:off x="3019680" y="0"/>
                    <a:ext cx="119160" cy="1357200"/>
                    <a:chOff x="3019680" y="0"/>
                    <a:chExt cx="119160" cy="1357200"/>
                  </a:xfrm>
                </p:grpSpPr>
                <p:sp>
                  <p:nvSpPr>
                    <p:cNvPr id="390" name="Rectangle 195"/>
                    <p:cNvSpPr/>
                    <p:nvPr/>
                  </p:nvSpPr>
                  <p:spPr>
                    <a:xfrm>
                      <a:off x="3046680" y="0"/>
                      <a:ext cx="57600" cy="13302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Rectangle 196"/>
                    <p:cNvSpPr/>
                    <p:nvPr/>
                  </p:nvSpPr>
                  <p:spPr>
                    <a:xfrm>
                      <a:off x="3019680" y="1280160"/>
                      <a:ext cx="119160" cy="77040"/>
                    </a:xfrm>
                    <a:prstGeom prst="rect">
                      <a:avLst/>
                    </a:prstGeom>
                    <a:solidFill>
                      <a:srgbClr val="33333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240" bIns="30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2" name="Group 197"/>
                  <p:cNvGrpSpPr/>
                  <p:nvPr/>
                </p:nvGrpSpPr>
                <p:grpSpPr>
                  <a:xfrm>
                    <a:off x="2198520" y="1342800"/>
                    <a:ext cx="1256040" cy="136800"/>
                    <a:chOff x="2198520" y="1342800"/>
                    <a:chExt cx="1256040" cy="136800"/>
                  </a:xfrm>
                </p:grpSpPr>
                <p:sp>
                  <p:nvSpPr>
                    <p:cNvPr id="393" name="Rectangle 198"/>
                    <p:cNvSpPr/>
                    <p:nvPr/>
                  </p:nvSpPr>
                  <p:spPr>
                    <a:xfrm>
                      <a:off x="2198520" y="1342800"/>
                      <a:ext cx="1256040" cy="860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240" bIns="39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Rectangle 199"/>
                    <p:cNvSpPr/>
                    <p:nvPr/>
                  </p:nvSpPr>
                  <p:spPr>
                    <a:xfrm>
                      <a:off x="2198520" y="1428840"/>
                      <a:ext cx="118800" cy="50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969696"/>
                        </a:gs>
                        <a:gs pos="100000">
                          <a:srgbClr val="45454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Rectangle 200"/>
                    <p:cNvSpPr/>
                    <p:nvPr/>
                  </p:nvSpPr>
                  <p:spPr>
                    <a:xfrm>
                      <a:off x="3345840" y="1428840"/>
                      <a:ext cx="107280" cy="460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969696"/>
                        </a:gs>
                        <a:gs pos="100000">
                          <a:srgbClr val="454545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96" name="Group 201"/>
                <p:cNvGrpSpPr/>
                <p:nvPr/>
              </p:nvGrpSpPr>
              <p:grpSpPr>
                <a:xfrm>
                  <a:off x="2261520" y="461880"/>
                  <a:ext cx="543240" cy="887040"/>
                  <a:chOff x="2261520" y="461880"/>
                  <a:chExt cx="543240" cy="887040"/>
                </a:xfrm>
              </p:grpSpPr>
              <p:grpSp>
                <p:nvGrpSpPr>
                  <p:cNvPr id="397" name="Group 202"/>
                  <p:cNvGrpSpPr/>
                  <p:nvPr/>
                </p:nvGrpSpPr>
                <p:grpSpPr>
                  <a:xfrm>
                    <a:off x="2261520" y="461880"/>
                    <a:ext cx="543240" cy="520560"/>
                    <a:chOff x="2261520" y="461880"/>
                    <a:chExt cx="543240" cy="520560"/>
                  </a:xfrm>
                </p:grpSpPr>
                <p:grpSp>
                  <p:nvGrpSpPr>
                    <p:cNvPr id="398" name="Group 203"/>
                    <p:cNvGrpSpPr/>
                    <p:nvPr/>
                  </p:nvGrpSpPr>
                  <p:grpSpPr>
                    <a:xfrm>
                      <a:off x="2261520" y="591840"/>
                      <a:ext cx="543240" cy="390600"/>
                      <a:chOff x="2261520" y="591840"/>
                      <a:chExt cx="543240" cy="390600"/>
                    </a:xfrm>
                  </p:grpSpPr>
                  <p:grpSp>
                    <p:nvGrpSpPr>
                      <p:cNvPr id="399" name="Group 204"/>
                      <p:cNvGrpSpPr/>
                      <p:nvPr/>
                    </p:nvGrpSpPr>
                    <p:grpSpPr>
                      <a:xfrm>
                        <a:off x="2285640" y="806760"/>
                        <a:ext cx="493200" cy="145800"/>
                        <a:chOff x="2285640" y="806760"/>
                        <a:chExt cx="493200" cy="145800"/>
                      </a:xfrm>
                    </p:grpSpPr>
                    <p:sp>
                      <p:nvSpPr>
                        <p:cNvPr id="400" name="AutoShape 205"/>
                        <p:cNvSpPr/>
                        <p:nvPr/>
                      </p:nvSpPr>
                      <p:spPr>
                        <a:xfrm>
                          <a:off x="2296440" y="819720"/>
                          <a:ext cx="478080" cy="132840"/>
                        </a:xfrm>
                        <a:custGeom>
                          <a:avLst/>
                          <a:gdLst>
                            <a:gd name="textAreaLeft" fmla="*/ 103320 w 478080"/>
                            <a:gd name="textAreaRight" fmla="*/ 374760 w 478080"/>
                            <a:gd name="textAreaTop" fmla="*/ 28440 h 132840"/>
                            <a:gd name="textAreaBottom" fmla="*/ 104400 h 1328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5760" y="21600"/>
                              </a:lnTo>
                              <a:lnTo>
                                <a:pt x="15840" y="21600"/>
                              </a:lnTo>
                              <a:lnTo>
                                <a:pt x="21600" y="0"/>
                              </a:lnTo>
                              <a:close/>
                            </a:path>
                          </a:pathLst>
                        </a:custGeom>
                        <a:blipFill rotWithShape="0">
                          <a:blip r:embed="rId13"/>
                          <a:srcRect/>
                          <a:tile tx="0" ty="0" sx="100000" sy="100000" algn="ctr"/>
                        </a:blip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160" bIns="2916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1" name="Line 206"/>
                        <p:cNvSpPr/>
                        <p:nvPr/>
                      </p:nvSpPr>
                      <p:spPr>
                        <a:xfrm>
                          <a:off x="2285640" y="806760"/>
                          <a:ext cx="4932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02" name="未知"/>
                      <p:cNvSpPr/>
                      <p:nvPr/>
                    </p:nvSpPr>
                    <p:spPr>
                      <a:xfrm>
                        <a:off x="2261520" y="659160"/>
                        <a:ext cx="543240" cy="303120"/>
                      </a:xfrm>
                      <a:custGeom>
                        <a:avLst/>
                        <a:gdLst>
                          <a:gd name="textAreaLeft" fmla="*/ 0 w 543240"/>
                          <a:gd name="textAreaRight" fmla="*/ 543600 w 543240"/>
                          <a:gd name="textAreaTop" fmla="*/ 0 h 303120"/>
                          <a:gd name="textAreaBottom" fmla="*/ 303480 h 303120"/>
                        </a:gdLst>
                        <a:ahLst/>
                        <a:rect l="textAreaLeft" t="textAreaTop" r="textAreaRight" b="textAreaBottom"/>
                        <a:pathLst>
                          <a:path w="1994" h="1404">
                            <a:moveTo>
                              <a:pt x="543" y="1404"/>
                            </a:moveTo>
                            <a:lnTo>
                              <a:pt x="0" y="624"/>
                            </a:lnTo>
                            <a:lnTo>
                              <a:pt x="724" y="312"/>
                            </a:lnTo>
                            <a:lnTo>
                              <a:pt x="724" y="0"/>
                            </a:lnTo>
                            <a:lnTo>
                              <a:pt x="1267" y="0"/>
                            </a:lnTo>
                            <a:lnTo>
                              <a:pt x="1265" y="330"/>
                            </a:lnTo>
                            <a:lnTo>
                              <a:pt x="1994" y="624"/>
                            </a:lnTo>
                            <a:lnTo>
                              <a:pt x="1448" y="1404"/>
                            </a:lnTo>
                            <a:lnTo>
                              <a:pt x="543" y="1404"/>
                            </a:lnTo>
                            <a:close/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03" name="Group 208"/>
                      <p:cNvGrpSpPr/>
                      <p:nvPr/>
                    </p:nvGrpSpPr>
                    <p:grpSpPr>
                      <a:xfrm>
                        <a:off x="2433600" y="591840"/>
                        <a:ext cx="240120" cy="352800"/>
                        <a:chOff x="2433600" y="591840"/>
                        <a:chExt cx="240120" cy="352800"/>
                      </a:xfrm>
                    </p:grpSpPr>
                    <p:sp>
                      <p:nvSpPr>
                        <p:cNvPr id="404" name="AutoShape 209"/>
                        <p:cNvSpPr/>
                        <p:nvPr/>
                      </p:nvSpPr>
                      <p:spPr>
                        <a:xfrm>
                          <a:off x="2477160" y="650520"/>
                          <a:ext cx="106920" cy="63720"/>
                        </a:xfrm>
                        <a:custGeom>
                          <a:avLst/>
                          <a:gdLst>
                            <a:gd name="textAreaLeft" fmla="*/ 22320 w 106920"/>
                            <a:gd name="textAreaRight" fmla="*/ 84600 w 106920"/>
                            <a:gd name="textAreaTop" fmla="*/ 12960 h 63720"/>
                            <a:gd name="textAreaBottom" fmla="*/ 50760 h 6372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5400" y="21600"/>
                              </a:lnTo>
                              <a:lnTo>
                                <a:pt x="16200" y="21600"/>
                              </a:lnTo>
                              <a:lnTo>
                                <a:pt x="21600" y="0"/>
                              </a:ln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9000" bIns="-90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5" name="hx30Oval 20"/>
                        <p:cNvSpPr/>
                        <p:nvPr/>
                      </p:nvSpPr>
                      <p:spPr>
                        <a:xfrm>
                          <a:off x="2488320" y="616680"/>
                          <a:ext cx="90000" cy="1116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520" bIns="-3852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6" name="hx30Rectangle 21"/>
                        <p:cNvSpPr/>
                        <p:nvPr/>
                      </p:nvSpPr>
                      <p:spPr>
                        <a:xfrm>
                          <a:off x="2509920" y="591840"/>
                          <a:ext cx="45000" cy="2376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040" bIns="-2304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7" name="hx30Freeform 72"/>
                        <p:cNvSpPr/>
                        <p:nvPr/>
                      </p:nvSpPr>
                      <p:spPr>
                        <a:xfrm>
                          <a:off x="2444400" y="709200"/>
                          <a:ext cx="229320" cy="235440"/>
                        </a:xfrm>
                        <a:custGeom>
                          <a:avLst/>
                          <a:gdLst>
                            <a:gd name="textAreaLeft" fmla="*/ 0 w 229320"/>
                            <a:gd name="textAreaRight" fmla="*/ 229680 w 229320"/>
                            <a:gd name="textAreaTop" fmla="*/ 0 h 235440"/>
                            <a:gd name="textAreaBottom" fmla="*/ 235800 h 235440"/>
                          </a:gdLst>
                          <a:ahLst/>
                          <a:rect l="textAreaLeft" t="textAreaTop" r="textAreaRight" b="textAreaBottom"/>
                          <a:pathLst>
                            <a:path w="1830" h="3302">
                              <a:moveTo>
                                <a:pt x="840" y="0"/>
                              </a:moveTo>
                              <a:cubicBezTo>
                                <a:pt x="615" y="572"/>
                                <a:pt x="390" y="1144"/>
                                <a:pt x="480" y="1404"/>
                              </a:cubicBezTo>
                              <a:cubicBezTo>
                                <a:pt x="570" y="1664"/>
                                <a:pt x="1170" y="1456"/>
                                <a:pt x="1380" y="1560"/>
                              </a:cubicBezTo>
                              <a:cubicBezTo>
                                <a:pt x="1590" y="1664"/>
                                <a:pt x="1830" y="1872"/>
                                <a:pt x="1740" y="2028"/>
                              </a:cubicBezTo>
                              <a:cubicBezTo>
                                <a:pt x="1650" y="2184"/>
                                <a:pt x="870" y="2366"/>
                                <a:pt x="840" y="2496"/>
                              </a:cubicBezTo>
                              <a:cubicBezTo>
                                <a:pt x="810" y="2626"/>
                                <a:pt x="1410" y="2730"/>
                                <a:pt x="1560" y="2808"/>
                              </a:cubicBezTo>
                              <a:cubicBezTo>
                                <a:pt x="1710" y="2886"/>
                                <a:pt x="1740" y="2886"/>
                                <a:pt x="1740" y="2964"/>
                              </a:cubicBezTo>
                              <a:cubicBezTo>
                                <a:pt x="1740" y="3042"/>
                                <a:pt x="1680" y="3302"/>
                                <a:pt x="1560" y="3276"/>
                              </a:cubicBezTo>
                              <a:cubicBezTo>
                                <a:pt x="1440" y="3250"/>
                                <a:pt x="1170" y="2912"/>
                                <a:pt x="1020" y="2808"/>
                              </a:cubicBezTo>
                              <a:cubicBezTo>
                                <a:pt x="870" y="2704"/>
                                <a:pt x="720" y="2730"/>
                                <a:pt x="660" y="2652"/>
                              </a:cubicBezTo>
                              <a:cubicBezTo>
                                <a:pt x="600" y="2574"/>
                                <a:pt x="540" y="2470"/>
                                <a:pt x="660" y="2340"/>
                              </a:cubicBezTo>
                              <a:cubicBezTo>
                                <a:pt x="780" y="2210"/>
                                <a:pt x="1470" y="1976"/>
                                <a:pt x="1380" y="1872"/>
                              </a:cubicBezTo>
                              <a:cubicBezTo>
                                <a:pt x="1290" y="1768"/>
                                <a:pt x="240" y="2028"/>
                                <a:pt x="120" y="1716"/>
                              </a:cubicBezTo>
                              <a:cubicBezTo>
                                <a:pt x="0" y="1404"/>
                                <a:pt x="330" y="702"/>
                                <a:pt x="660" y="0"/>
                              </a:cubicBezTo>
                            </a:path>
                          </a:pathLst>
                        </a:custGeom>
                        <a:blipFill rotWithShape="0">
                          <a:blip r:embed="rId14"/>
                          <a:srcRect/>
                          <a:tile tx="0" ty="0" sx="100000" sy="100000" algn="ctr"/>
                        </a:blip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08" name="Group 213"/>
                        <p:cNvGrpSpPr/>
                        <p:nvPr/>
                      </p:nvGrpSpPr>
                      <p:grpSpPr>
                        <a:xfrm>
                          <a:off x="2433600" y="629640"/>
                          <a:ext cx="194040" cy="33480"/>
                          <a:chOff x="2433600" y="629640"/>
                          <a:chExt cx="194040" cy="33480"/>
                        </a:xfrm>
                      </p:grpSpPr>
                      <p:sp>
                        <p:nvSpPr>
                          <p:cNvPr id="409" name="Rectangle 214"/>
                          <p:cNvSpPr/>
                          <p:nvPr/>
                        </p:nvSpPr>
                        <p:spPr>
                          <a:xfrm>
                            <a:off x="2473560" y="629640"/>
                            <a:ext cx="113760" cy="1944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7360" bIns="-27360" anchor="t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0" name="Rectangle 215"/>
                          <p:cNvSpPr/>
                          <p:nvPr/>
                        </p:nvSpPr>
                        <p:spPr>
                          <a:xfrm>
                            <a:off x="2433600" y="644760"/>
                            <a:ext cx="194040" cy="1836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440" bIns="-28440" anchor="t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411" name="AutoShape 216"/>
                      <p:cNvSpPr/>
                      <p:nvPr/>
                    </p:nvSpPr>
                    <p:spPr>
                      <a:xfrm flipV="1">
                        <a:off x="2362320" y="961560"/>
                        <a:ext cx="342000" cy="20520"/>
                      </a:xfrm>
                      <a:custGeom>
                        <a:avLst/>
                        <a:gdLst>
                          <a:gd name="textAreaLeft" fmla="*/ 60840 w 342000"/>
                          <a:gd name="textAreaRight" fmla="*/ 281160 w 342000"/>
                          <a:gd name="textAreaTop" fmla="*/ 3600 h 20520"/>
                          <a:gd name="textAreaBottom" fmla="*/ 16920 h 205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4096" y="21600"/>
                            </a:lnTo>
                            <a:lnTo>
                              <a:pt x="17504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2" name="Rectangle 217"/>
                      <p:cNvSpPr/>
                      <p:nvPr/>
                    </p:nvSpPr>
                    <p:spPr>
                      <a:xfrm>
                        <a:off x="2406240" y="957960"/>
                        <a:ext cx="257040" cy="118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13" name="Group 218"/>
                    <p:cNvGrpSpPr/>
                    <p:nvPr/>
                  </p:nvGrpSpPr>
                  <p:grpSpPr>
                    <a:xfrm>
                      <a:off x="2403000" y="461880"/>
                      <a:ext cx="230400" cy="137880"/>
                      <a:chOff x="2403000" y="461880"/>
                      <a:chExt cx="230400" cy="137880"/>
                    </a:xfrm>
                  </p:grpSpPr>
                  <p:sp>
                    <p:nvSpPr>
                      <p:cNvPr id="414" name="未知"/>
                      <p:cNvSpPr/>
                      <p:nvPr/>
                    </p:nvSpPr>
                    <p:spPr>
                      <a:xfrm flipV="1" rot="20700000">
                        <a:off x="2481480" y="465840"/>
                        <a:ext cx="20880" cy="115920"/>
                      </a:xfrm>
                      <a:custGeom>
                        <a:avLst/>
                        <a:gdLst>
                          <a:gd name="textAreaLeft" fmla="*/ 0 w 20880"/>
                          <a:gd name="textAreaRight" fmla="*/ 21240 w 20880"/>
                          <a:gd name="textAreaTop" fmla="*/ 360 h 115920"/>
                          <a:gd name="textAreaBottom" fmla="*/ 116640 h 115920"/>
                        </a:gdLst>
                        <a:ahLst/>
                        <a:rect l="textAreaLeft" t="textAreaTop" r="textAreaRight" b="textAreaBottom"/>
                        <a:pathLst>
                          <a:path w="180" h="1248">
                            <a:moveTo>
                              <a:pt x="180" y="1248"/>
                            </a:moveTo>
                            <a:cubicBezTo>
                              <a:pt x="90" y="1170"/>
                              <a:pt x="0" y="1092"/>
                              <a:pt x="0" y="936"/>
                            </a:cubicBezTo>
                            <a:cubicBezTo>
                              <a:pt x="0" y="780"/>
                              <a:pt x="180" y="468"/>
                              <a:pt x="180" y="312"/>
                            </a:cubicBezTo>
                            <a:cubicBezTo>
                              <a:pt x="180" y="156"/>
                              <a:pt x="30" y="52"/>
                              <a:pt x="0" y="0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5" name="未知"/>
                      <p:cNvSpPr/>
                      <p:nvPr/>
                    </p:nvSpPr>
                    <p:spPr>
                      <a:xfrm>
                        <a:off x="2530800" y="465840"/>
                        <a:ext cx="5400" cy="115920"/>
                      </a:xfrm>
                      <a:custGeom>
                        <a:avLst/>
                        <a:gdLst>
                          <a:gd name="textAreaLeft" fmla="*/ 0 w 5400"/>
                          <a:gd name="textAreaRight" fmla="*/ 5760 w 5400"/>
                          <a:gd name="textAreaTop" fmla="*/ 0 h 115920"/>
                          <a:gd name="textAreaBottom" fmla="*/ 116280 h 115920"/>
                        </a:gdLst>
                        <a:ahLst/>
                        <a:rect l="textAreaLeft" t="textAreaTop" r="textAreaRight" b="textAreaBottom"/>
                        <a:pathLst>
                          <a:path w="180" h="1248">
                            <a:moveTo>
                              <a:pt x="180" y="1248"/>
                            </a:moveTo>
                            <a:cubicBezTo>
                              <a:pt x="90" y="1170"/>
                              <a:pt x="0" y="1092"/>
                              <a:pt x="0" y="936"/>
                            </a:cubicBezTo>
                            <a:cubicBezTo>
                              <a:pt x="0" y="780"/>
                              <a:pt x="180" y="468"/>
                              <a:pt x="180" y="312"/>
                            </a:cubicBezTo>
                            <a:cubicBezTo>
                              <a:pt x="180" y="156"/>
                              <a:pt x="30" y="52"/>
                              <a:pt x="0" y="0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6" name="未知"/>
                      <p:cNvSpPr/>
                      <p:nvPr/>
                    </p:nvSpPr>
                    <p:spPr>
                      <a:xfrm flipH="1" rot="20100000">
                        <a:off x="2464200" y="466200"/>
                        <a:ext cx="4320" cy="115920"/>
                      </a:xfrm>
                      <a:custGeom>
                        <a:avLst/>
                        <a:gdLst>
                          <a:gd name="textAreaLeft" fmla="*/ 0 w 4320"/>
                          <a:gd name="textAreaRight" fmla="*/ 4320 w 4320"/>
                          <a:gd name="textAreaTop" fmla="*/ 0 h 115920"/>
                          <a:gd name="textAreaBottom" fmla="*/ 116280 h 115920"/>
                        </a:gdLst>
                        <a:ahLst/>
                        <a:rect l="textAreaLeft" t="textAreaTop" r="textAreaRight" b="textAreaBottom"/>
                        <a:pathLst>
                          <a:path w="180" h="1248">
                            <a:moveTo>
                              <a:pt x="180" y="1248"/>
                            </a:moveTo>
                            <a:cubicBezTo>
                              <a:pt x="90" y="1170"/>
                              <a:pt x="0" y="1092"/>
                              <a:pt x="0" y="936"/>
                            </a:cubicBezTo>
                            <a:cubicBezTo>
                              <a:pt x="0" y="780"/>
                              <a:pt x="180" y="468"/>
                              <a:pt x="180" y="312"/>
                            </a:cubicBezTo>
                            <a:cubicBezTo>
                              <a:pt x="180" y="156"/>
                              <a:pt x="30" y="52"/>
                              <a:pt x="0" y="0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7" name="未知"/>
                      <p:cNvSpPr/>
                      <p:nvPr/>
                    </p:nvSpPr>
                    <p:spPr>
                      <a:xfrm flipH="1">
                        <a:off x="2557080" y="465840"/>
                        <a:ext cx="15480" cy="115920"/>
                      </a:xfrm>
                      <a:custGeom>
                        <a:avLst/>
                        <a:gdLst>
                          <a:gd name="textAreaLeft" fmla="*/ -360 w 15480"/>
                          <a:gd name="textAreaRight" fmla="*/ 15480 w 15480"/>
                          <a:gd name="textAreaTop" fmla="*/ 0 h 115920"/>
                          <a:gd name="textAreaBottom" fmla="*/ 116280 h 115920"/>
                        </a:gdLst>
                        <a:ahLst/>
                        <a:rect l="textAreaLeft" t="textAreaTop" r="textAreaRight" b="textAreaBottom"/>
                        <a:pathLst>
                          <a:path w="180" h="1248">
                            <a:moveTo>
                              <a:pt x="180" y="1248"/>
                            </a:moveTo>
                            <a:cubicBezTo>
                              <a:pt x="90" y="1170"/>
                              <a:pt x="0" y="1092"/>
                              <a:pt x="0" y="936"/>
                            </a:cubicBezTo>
                            <a:cubicBezTo>
                              <a:pt x="0" y="780"/>
                              <a:pt x="180" y="468"/>
                              <a:pt x="180" y="312"/>
                            </a:cubicBezTo>
                            <a:cubicBezTo>
                              <a:pt x="180" y="156"/>
                              <a:pt x="30" y="52"/>
                              <a:pt x="0" y="0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8" name="未知"/>
                      <p:cNvSpPr/>
                      <p:nvPr/>
                    </p:nvSpPr>
                    <p:spPr>
                      <a:xfrm rot="19800000">
                        <a:off x="2434320" y="465120"/>
                        <a:ext cx="11160" cy="128520"/>
                      </a:xfrm>
                      <a:custGeom>
                        <a:avLst/>
                        <a:gdLst>
                          <a:gd name="textAreaLeft" fmla="*/ 0 w 11160"/>
                          <a:gd name="textAreaRight" fmla="*/ 11520 w 11160"/>
                          <a:gd name="textAreaTop" fmla="*/ 0 h 128520"/>
                          <a:gd name="textAreaBottom" fmla="*/ 128880 h 128520"/>
                        </a:gdLst>
                        <a:ahLst/>
                        <a:rect l="textAreaLeft" t="textAreaTop" r="textAreaRight" b="textAreaBottom"/>
                        <a:pathLst>
                          <a:path w="180" h="1248">
                            <a:moveTo>
                              <a:pt x="180" y="1248"/>
                            </a:moveTo>
                            <a:cubicBezTo>
                              <a:pt x="90" y="1170"/>
                              <a:pt x="0" y="1092"/>
                              <a:pt x="0" y="936"/>
                            </a:cubicBezTo>
                            <a:cubicBezTo>
                              <a:pt x="0" y="780"/>
                              <a:pt x="180" y="468"/>
                              <a:pt x="180" y="312"/>
                            </a:cubicBezTo>
                            <a:cubicBezTo>
                              <a:pt x="180" y="156"/>
                              <a:pt x="30" y="52"/>
                              <a:pt x="0" y="0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9" name="未知"/>
                      <p:cNvSpPr/>
                      <p:nvPr/>
                    </p:nvSpPr>
                    <p:spPr>
                      <a:xfrm flipH="1" rot="1500000">
                        <a:off x="2595600" y="474480"/>
                        <a:ext cx="11160" cy="128520"/>
                      </a:xfrm>
                      <a:custGeom>
                        <a:avLst/>
                        <a:gdLst>
                          <a:gd name="textAreaLeft" fmla="*/ -360 w 11160"/>
                          <a:gd name="textAreaRight" fmla="*/ 11160 w 11160"/>
                          <a:gd name="textAreaTop" fmla="*/ 0 h 128520"/>
                          <a:gd name="textAreaBottom" fmla="*/ 128880 h 128520"/>
                        </a:gdLst>
                        <a:ahLst/>
                        <a:rect l="textAreaLeft" t="textAreaTop" r="textAreaRight" b="textAreaBottom"/>
                        <a:pathLst>
                          <a:path w="180" h="1248">
                            <a:moveTo>
                              <a:pt x="180" y="1248"/>
                            </a:moveTo>
                            <a:cubicBezTo>
                              <a:pt x="90" y="1170"/>
                              <a:pt x="0" y="1092"/>
                              <a:pt x="0" y="936"/>
                            </a:cubicBezTo>
                            <a:cubicBezTo>
                              <a:pt x="0" y="780"/>
                              <a:pt x="180" y="468"/>
                              <a:pt x="180" y="312"/>
                            </a:cubicBezTo>
                            <a:cubicBezTo>
                              <a:pt x="180" y="156"/>
                              <a:pt x="30" y="52"/>
                              <a:pt x="0" y="0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0" name="未知"/>
                      <p:cNvSpPr/>
                      <p:nvPr/>
                    </p:nvSpPr>
                    <p:spPr>
                      <a:xfrm flipV="1" rot="20700000">
                        <a:off x="2501640" y="461880"/>
                        <a:ext cx="12240" cy="68040"/>
                      </a:xfrm>
                      <a:custGeom>
                        <a:avLst/>
                        <a:gdLst>
                          <a:gd name="textAreaLeft" fmla="*/ 0 w 12240"/>
                          <a:gd name="textAreaRight" fmla="*/ 12600 w 12240"/>
                          <a:gd name="textAreaTop" fmla="*/ 0 h 68040"/>
                          <a:gd name="textAreaBottom" fmla="*/ 68040 h 68040"/>
                        </a:gdLst>
                        <a:ahLst/>
                        <a:rect l="textAreaLeft" t="textAreaTop" r="textAreaRight" b="textAreaBottom"/>
                        <a:pathLst>
                          <a:path w="180" h="1248">
                            <a:moveTo>
                              <a:pt x="180" y="1248"/>
                            </a:moveTo>
                            <a:cubicBezTo>
                              <a:pt x="90" y="1170"/>
                              <a:pt x="0" y="1092"/>
                              <a:pt x="0" y="936"/>
                            </a:cubicBezTo>
                            <a:cubicBezTo>
                              <a:pt x="0" y="780"/>
                              <a:pt x="180" y="468"/>
                              <a:pt x="180" y="312"/>
                            </a:cubicBezTo>
                            <a:cubicBezTo>
                              <a:pt x="180" y="156"/>
                              <a:pt x="30" y="52"/>
                              <a:pt x="0" y="0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240" bIns="212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1" name="未知"/>
                      <p:cNvSpPr/>
                      <p:nvPr/>
                    </p:nvSpPr>
                    <p:spPr>
                      <a:xfrm flipV="1" rot="900000">
                        <a:off x="2590560" y="471240"/>
                        <a:ext cx="12240" cy="68400"/>
                      </a:xfrm>
                      <a:custGeom>
                        <a:avLst/>
                        <a:gdLst>
                          <a:gd name="textAreaLeft" fmla="*/ 0 w 12240"/>
                          <a:gd name="textAreaRight" fmla="*/ 12600 w 12240"/>
                          <a:gd name="textAreaTop" fmla="*/ 360 h 68400"/>
                          <a:gd name="textAreaBottom" fmla="*/ 69120 h 68400"/>
                        </a:gdLst>
                        <a:ahLst/>
                        <a:rect l="textAreaLeft" t="textAreaTop" r="textAreaRight" b="textAreaBottom"/>
                        <a:pathLst>
                          <a:path w="180" h="1248">
                            <a:moveTo>
                              <a:pt x="180" y="1248"/>
                            </a:moveTo>
                            <a:cubicBezTo>
                              <a:pt x="90" y="1170"/>
                              <a:pt x="0" y="1092"/>
                              <a:pt x="0" y="936"/>
                            </a:cubicBezTo>
                            <a:cubicBezTo>
                              <a:pt x="0" y="780"/>
                              <a:pt x="180" y="468"/>
                              <a:pt x="180" y="312"/>
                            </a:cubicBezTo>
                            <a:cubicBezTo>
                              <a:pt x="180" y="156"/>
                              <a:pt x="30" y="52"/>
                              <a:pt x="0" y="0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960" bIns="2196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22" name="xjhhxtx20"/>
                  <p:cNvSpPr/>
                  <p:nvPr/>
                </p:nvSpPr>
                <p:spPr>
                  <a:xfrm>
                    <a:off x="2304000" y="987840"/>
                    <a:ext cx="450720" cy="361080"/>
                  </a:xfrm>
                  <a:prstGeom prst="rect">
                    <a:avLst/>
                  </a:prstGeom>
                  <a:blipFill rotWithShape="0">
                    <a:blip r:embed="rId1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3" name="Group 228"/>
                <p:cNvGrpSpPr/>
                <p:nvPr/>
              </p:nvGrpSpPr>
              <p:grpSpPr>
                <a:xfrm>
                  <a:off x="2332800" y="313200"/>
                  <a:ext cx="1108080" cy="288000"/>
                  <a:chOff x="2332800" y="313200"/>
                  <a:chExt cx="1108080" cy="288000"/>
                </a:xfrm>
              </p:grpSpPr>
              <p:grpSp>
                <p:nvGrpSpPr>
                  <p:cNvPr id="424" name="Group 229"/>
                  <p:cNvGrpSpPr/>
                  <p:nvPr/>
                </p:nvGrpSpPr>
                <p:grpSpPr>
                  <a:xfrm>
                    <a:off x="2332800" y="313200"/>
                    <a:ext cx="984960" cy="288000"/>
                    <a:chOff x="2332800" y="313200"/>
                    <a:chExt cx="984960" cy="288000"/>
                  </a:xfrm>
                </p:grpSpPr>
                <p:grpSp>
                  <p:nvGrpSpPr>
                    <p:cNvPr id="425" name="Group 230"/>
                    <p:cNvGrpSpPr/>
                    <p:nvPr/>
                  </p:nvGrpSpPr>
                  <p:grpSpPr>
                    <a:xfrm>
                      <a:off x="2332800" y="313200"/>
                      <a:ext cx="976320" cy="278640"/>
                      <a:chOff x="2332800" y="313200"/>
                      <a:chExt cx="976320" cy="278640"/>
                    </a:xfrm>
                  </p:grpSpPr>
                  <p:sp>
                    <p:nvSpPr>
                      <p:cNvPr id="426" name="AutoShape 231"/>
                      <p:cNvSpPr/>
                      <p:nvPr/>
                    </p:nvSpPr>
                    <p:spPr>
                      <a:xfrm flipV="1" rot="11349000">
                        <a:off x="2338200" y="362520"/>
                        <a:ext cx="630720" cy="119160"/>
                      </a:xfrm>
                      <a:prstGeom prst="flowChartDisplay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7" name="未知"/>
                      <p:cNvSpPr/>
                      <p:nvPr/>
                    </p:nvSpPr>
                    <p:spPr>
                      <a:xfrm rot="5982600">
                        <a:off x="3012120" y="263880"/>
                        <a:ext cx="120240" cy="459720"/>
                      </a:xfrm>
                      <a:custGeom>
                        <a:avLst/>
                        <a:gdLst>
                          <a:gd name="textAreaLeft" fmla="*/ 0 w 120240"/>
                          <a:gd name="textAreaRight" fmla="*/ 120600 w 120240"/>
                          <a:gd name="textAreaTop" fmla="*/ 0 h 459720"/>
                          <a:gd name="textAreaBottom" fmla="*/ 460080 h 459720"/>
                        </a:gdLst>
                        <a:ahLst/>
                        <a:rect l="textAreaLeft" t="textAreaTop" r="textAreaRight" b="textAreaBottom"/>
                        <a:pathLst>
                          <a:path w="238" h="775">
                            <a:moveTo>
                              <a:pt x="0" y="775"/>
                            </a:moveTo>
                            <a:lnTo>
                              <a:pt x="2" y="0"/>
                            </a:lnTo>
                            <a:lnTo>
                              <a:pt x="238" y="1"/>
                            </a:lnTo>
                            <a:lnTo>
                              <a:pt x="232" y="4"/>
                            </a:lnTo>
                            <a:lnTo>
                              <a:pt x="232" y="76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28" name="Group 233"/>
                    <p:cNvGrpSpPr/>
                    <p:nvPr/>
                  </p:nvGrpSpPr>
                  <p:grpSpPr>
                    <a:xfrm>
                      <a:off x="3206160" y="456480"/>
                      <a:ext cx="111600" cy="144720"/>
                      <a:chOff x="3206160" y="456480"/>
                      <a:chExt cx="111600" cy="144720"/>
                    </a:xfrm>
                  </p:grpSpPr>
                  <p:sp>
                    <p:nvSpPr>
                      <p:cNvPr id="429" name="Rectangle 234"/>
                      <p:cNvSpPr/>
                      <p:nvPr/>
                    </p:nvSpPr>
                    <p:spPr>
                      <a:xfrm rot="5982600">
                        <a:off x="3181320" y="501120"/>
                        <a:ext cx="108360" cy="414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202020"/>
                          </a:gs>
                          <a:gs pos="50000">
                            <a:srgbClr val="ffffff"/>
                          </a:gs>
                          <a:gs pos="100000">
                            <a:srgbClr val="202020"/>
                          </a:gs>
                        </a:gsLst>
                        <a:lin ang="0"/>
                      </a:gradFill>
                      <a:ln w="3240">
                        <a:solidFill>
                          <a:srgbClr val="333333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 vert="eaVert" rot="10800000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0" name="Rectangle 235"/>
                      <p:cNvSpPr/>
                      <p:nvPr/>
                    </p:nvSpPr>
                    <p:spPr>
                      <a:xfrm rot="5982600">
                        <a:off x="3209760" y="500400"/>
                        <a:ext cx="137160" cy="561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595959"/>
                          </a:gs>
                          <a:gs pos="50000">
                            <a:srgbClr val="ffffff"/>
                          </a:gs>
                          <a:gs pos="100000">
                            <a:srgbClr val="595959"/>
                          </a:gs>
                        </a:gsLst>
                        <a:lin ang="0"/>
                      </a:gradFill>
                      <a:ln w="3240">
                        <a:solidFill>
                          <a:srgbClr val="333333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360" bIns="9360" anchor="t" vert="eaVert" rot="10800000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31" name="未知"/>
                  <p:cNvSpPr/>
                  <p:nvPr/>
                </p:nvSpPr>
                <p:spPr>
                  <a:xfrm>
                    <a:off x="2361240" y="392760"/>
                    <a:ext cx="406440" cy="109800"/>
                  </a:xfrm>
                  <a:custGeom>
                    <a:avLst/>
                    <a:gdLst>
                      <a:gd name="textAreaLeft" fmla="*/ 0 w 406440"/>
                      <a:gd name="textAreaRight" fmla="*/ 406800 w 4064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688" h="218">
                        <a:moveTo>
                          <a:pt x="688" y="206"/>
                        </a:moveTo>
                        <a:cubicBezTo>
                          <a:pt x="650" y="189"/>
                          <a:pt x="523" y="117"/>
                          <a:pt x="480" y="99"/>
                        </a:cubicBezTo>
                        <a:cubicBezTo>
                          <a:pt x="437" y="81"/>
                          <a:pt x="449" y="97"/>
                          <a:pt x="427" y="98"/>
                        </a:cubicBezTo>
                        <a:cubicBezTo>
                          <a:pt x="300" y="70"/>
                          <a:pt x="281" y="36"/>
                          <a:pt x="345" y="104"/>
                        </a:cubicBezTo>
                        <a:cubicBezTo>
                          <a:pt x="286" y="121"/>
                          <a:pt x="209" y="102"/>
                          <a:pt x="319" y="140"/>
                        </a:cubicBezTo>
                        <a:cubicBezTo>
                          <a:pt x="293" y="144"/>
                          <a:pt x="180" y="130"/>
                          <a:pt x="281" y="123"/>
                        </a:cubicBezTo>
                        <a:cubicBezTo>
                          <a:pt x="416" y="138"/>
                          <a:pt x="530" y="121"/>
                          <a:pt x="657" y="178"/>
                        </a:cubicBezTo>
                        <a:cubicBezTo>
                          <a:pt x="487" y="135"/>
                          <a:pt x="534" y="141"/>
                          <a:pt x="322" y="120"/>
                        </a:cubicBezTo>
                        <a:cubicBezTo>
                          <a:pt x="294" y="117"/>
                          <a:pt x="235" y="124"/>
                          <a:pt x="204" y="126"/>
                        </a:cubicBezTo>
                        <a:cubicBezTo>
                          <a:pt x="176" y="127"/>
                          <a:pt x="117" y="111"/>
                          <a:pt x="117" y="111"/>
                        </a:cubicBezTo>
                        <a:cubicBezTo>
                          <a:pt x="32" y="88"/>
                          <a:pt x="36" y="78"/>
                          <a:pt x="0" y="18"/>
                        </a:cubicBezTo>
                        <a:cubicBezTo>
                          <a:pt x="93" y="45"/>
                          <a:pt x="100" y="51"/>
                          <a:pt x="158" y="72"/>
                        </a:cubicBezTo>
                        <a:cubicBezTo>
                          <a:pt x="196" y="85"/>
                          <a:pt x="273" y="112"/>
                          <a:pt x="273" y="112"/>
                        </a:cubicBezTo>
                        <a:cubicBezTo>
                          <a:pt x="217" y="108"/>
                          <a:pt x="38" y="91"/>
                          <a:pt x="81" y="60"/>
                        </a:cubicBezTo>
                        <a:cubicBezTo>
                          <a:pt x="133" y="66"/>
                          <a:pt x="65" y="61"/>
                          <a:pt x="118" y="65"/>
                        </a:cubicBezTo>
                        <a:cubicBezTo>
                          <a:pt x="135" y="66"/>
                          <a:pt x="158" y="76"/>
                          <a:pt x="169" y="64"/>
                        </a:cubicBezTo>
                        <a:cubicBezTo>
                          <a:pt x="178" y="55"/>
                          <a:pt x="210" y="50"/>
                          <a:pt x="201" y="42"/>
                        </a:cubicBezTo>
                        <a:cubicBezTo>
                          <a:pt x="219" y="41"/>
                          <a:pt x="324" y="29"/>
                          <a:pt x="337" y="31"/>
                        </a:cubicBezTo>
                        <a:cubicBezTo>
                          <a:pt x="362" y="36"/>
                          <a:pt x="379" y="61"/>
                          <a:pt x="401" y="73"/>
                        </a:cubicBezTo>
                        <a:cubicBezTo>
                          <a:pt x="342" y="60"/>
                          <a:pt x="282" y="50"/>
                          <a:pt x="225" y="33"/>
                        </a:cubicBezTo>
                        <a:cubicBezTo>
                          <a:pt x="212" y="28"/>
                          <a:pt x="253" y="27"/>
                          <a:pt x="266" y="29"/>
                        </a:cubicBezTo>
                        <a:cubicBezTo>
                          <a:pt x="280" y="32"/>
                          <a:pt x="272" y="77"/>
                          <a:pt x="285" y="81"/>
                        </a:cubicBezTo>
                        <a:cubicBezTo>
                          <a:pt x="423" y="131"/>
                          <a:pt x="344" y="23"/>
                          <a:pt x="435" y="78"/>
                        </a:cubicBezTo>
                        <a:cubicBezTo>
                          <a:pt x="453" y="89"/>
                          <a:pt x="463" y="124"/>
                          <a:pt x="463" y="124"/>
                        </a:cubicBezTo>
                        <a:cubicBezTo>
                          <a:pt x="458" y="122"/>
                          <a:pt x="385" y="104"/>
                          <a:pt x="368" y="87"/>
                        </a:cubicBezTo>
                        <a:cubicBezTo>
                          <a:pt x="367" y="87"/>
                          <a:pt x="322" y="32"/>
                          <a:pt x="317" y="28"/>
                        </a:cubicBezTo>
                        <a:cubicBezTo>
                          <a:pt x="395" y="22"/>
                          <a:pt x="460" y="65"/>
                          <a:pt x="529" y="95"/>
                        </a:cubicBezTo>
                        <a:cubicBezTo>
                          <a:pt x="558" y="108"/>
                          <a:pt x="585" y="125"/>
                          <a:pt x="613" y="140"/>
                        </a:cubicBezTo>
                        <a:cubicBezTo>
                          <a:pt x="622" y="144"/>
                          <a:pt x="641" y="154"/>
                          <a:pt x="641" y="154"/>
                        </a:cubicBezTo>
                        <a:cubicBezTo>
                          <a:pt x="476" y="218"/>
                          <a:pt x="332" y="122"/>
                          <a:pt x="192" y="47"/>
                        </a:cubicBezTo>
                        <a:cubicBezTo>
                          <a:pt x="108" y="45"/>
                          <a:pt x="89" y="50"/>
                          <a:pt x="3" y="25"/>
                        </a:cubicBezTo>
                        <a:cubicBezTo>
                          <a:pt x="87" y="0"/>
                          <a:pt x="130" y="13"/>
                          <a:pt x="227" y="23"/>
                        </a:cubicBezTo>
                        <a:cubicBezTo>
                          <a:pt x="445" y="66"/>
                          <a:pt x="535" y="39"/>
                          <a:pt x="660" y="158"/>
                        </a:cubicBezTo>
                        <a:cubicBezTo>
                          <a:pt x="605" y="175"/>
                          <a:pt x="587" y="176"/>
                          <a:pt x="527" y="165"/>
                        </a:cubicBezTo>
                      </a:path>
                    </a:pathLst>
                  </a:custGeom>
                  <a:solidFill>
                    <a:srgbClr val="000000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Rectangle 237"/>
                  <p:cNvSpPr/>
                  <p:nvPr/>
                </p:nvSpPr>
                <p:spPr>
                  <a:xfrm rot="660000">
                    <a:off x="3151440" y="489960"/>
                    <a:ext cx="66600" cy="16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Rectangle 238"/>
                  <p:cNvSpPr/>
                  <p:nvPr/>
                </p:nvSpPr>
                <p:spPr>
                  <a:xfrm rot="660000">
                    <a:off x="3306600" y="524520"/>
                    <a:ext cx="133920" cy="16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Group 239"/>
                <p:cNvGrpSpPr/>
                <p:nvPr/>
              </p:nvGrpSpPr>
              <p:grpSpPr>
                <a:xfrm>
                  <a:off x="3009240" y="369000"/>
                  <a:ext cx="135360" cy="218160"/>
                  <a:chOff x="3009240" y="369000"/>
                  <a:chExt cx="135360" cy="218160"/>
                </a:xfrm>
              </p:grpSpPr>
              <p:sp>
                <p:nvSpPr>
                  <p:cNvPr id="435" name="Rectangle 240"/>
                  <p:cNvSpPr/>
                  <p:nvPr/>
                </p:nvSpPr>
                <p:spPr>
                  <a:xfrm>
                    <a:off x="3009240" y="369000"/>
                    <a:ext cx="135360" cy="64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Rectangle 241"/>
                  <p:cNvSpPr/>
                  <p:nvPr/>
                </p:nvSpPr>
                <p:spPr>
                  <a:xfrm>
                    <a:off x="3009240" y="522360"/>
                    <a:ext cx="135360" cy="64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37" name="Text Box 242"/>
            <p:cNvSpPr/>
            <p:nvPr/>
          </p:nvSpPr>
          <p:spPr>
            <a:xfrm>
              <a:off x="2198520" y="1515240"/>
              <a:ext cx="6129360" cy="37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             B           C          D       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Text Box 243"/>
          <p:cNvSpPr/>
          <p:nvPr/>
        </p:nvSpPr>
        <p:spPr>
          <a:xfrm>
            <a:off x="266760" y="189000"/>
            <a:ext cx="184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根据下图，写出每个步骤的化学方程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3"/>
          <p:cNvSpPr/>
          <p:nvPr/>
        </p:nvSpPr>
        <p:spPr>
          <a:xfrm flipV="1">
            <a:off x="4427640" y="3284280"/>
            <a:ext cx="1008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4"/>
          <p:cNvSpPr/>
          <p:nvPr/>
        </p:nvSpPr>
        <p:spPr>
          <a:xfrm flipH="1">
            <a:off x="4500720" y="3357720"/>
            <a:ext cx="107928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5"/>
          <p:cNvSpPr/>
          <p:nvPr/>
        </p:nvSpPr>
        <p:spPr>
          <a:xfrm>
            <a:off x="2808360" y="3573360"/>
            <a:ext cx="35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6"/>
          <p:cNvSpPr/>
          <p:nvPr/>
        </p:nvSpPr>
        <p:spPr>
          <a:xfrm>
            <a:off x="5003640" y="364500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7"/>
          <p:cNvSpPr/>
          <p:nvPr/>
        </p:nvSpPr>
        <p:spPr>
          <a:xfrm>
            <a:off x="4427640" y="4292640"/>
            <a:ext cx="129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8"/>
          <p:cNvSpPr/>
          <p:nvPr/>
        </p:nvSpPr>
        <p:spPr>
          <a:xfrm>
            <a:off x="5867280" y="4570560"/>
            <a:ext cx="122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9"/>
          <p:cNvSpPr/>
          <p:nvPr/>
        </p:nvSpPr>
        <p:spPr>
          <a:xfrm flipH="1" flipV="1">
            <a:off x="4284720" y="4437000"/>
            <a:ext cx="1511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0"/>
          <p:cNvSpPr/>
          <p:nvPr/>
        </p:nvSpPr>
        <p:spPr>
          <a:xfrm>
            <a:off x="4572000" y="3278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1"/>
          <p:cNvSpPr/>
          <p:nvPr/>
        </p:nvSpPr>
        <p:spPr>
          <a:xfrm>
            <a:off x="4932360" y="417816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2233440" y="465300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3"/>
          <p:cNvSpPr/>
          <p:nvPr/>
        </p:nvSpPr>
        <p:spPr>
          <a:xfrm flipV="1">
            <a:off x="2700360" y="4149360"/>
            <a:ext cx="1079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3203640" y="44370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2089080" y="287640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6"/>
          <p:cNvSpPr/>
          <p:nvPr/>
        </p:nvSpPr>
        <p:spPr>
          <a:xfrm flipV="1">
            <a:off x="2484360" y="350028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7"/>
          <p:cNvSpPr/>
          <p:nvPr/>
        </p:nvSpPr>
        <p:spPr>
          <a:xfrm>
            <a:off x="2124000" y="39942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8"/>
          <p:cNvSpPr/>
          <p:nvPr/>
        </p:nvSpPr>
        <p:spPr>
          <a:xfrm>
            <a:off x="2700360" y="3284640"/>
            <a:ext cx="10796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9"/>
          <p:cNvSpPr/>
          <p:nvPr/>
        </p:nvSpPr>
        <p:spPr>
          <a:xfrm>
            <a:off x="3132000" y="328464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0"/>
          <p:cNvSpPr/>
          <p:nvPr/>
        </p:nvSpPr>
        <p:spPr>
          <a:xfrm>
            <a:off x="214200" y="217440"/>
            <a:ext cx="22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堂小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1"/>
          <p:cNvSpPr/>
          <p:nvPr/>
        </p:nvSpPr>
        <p:spPr>
          <a:xfrm>
            <a:off x="3687840" y="3835440"/>
            <a:ext cx="1244520" cy="51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2"/>
          <p:cNvSpPr/>
          <p:nvPr/>
        </p:nvSpPr>
        <p:spPr>
          <a:xfrm>
            <a:off x="5580000" y="2900520"/>
            <a:ext cx="1513080" cy="51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箭头 595"/>
          <p:cNvSpPr/>
          <p:nvPr/>
        </p:nvSpPr>
        <p:spPr>
          <a:xfrm flipH="1" flipV="1">
            <a:off x="2700000" y="3357720"/>
            <a:ext cx="98748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24"/>
          <p:cNvSpPr/>
          <p:nvPr/>
        </p:nvSpPr>
        <p:spPr>
          <a:xfrm>
            <a:off x="4888080" y="4581360"/>
            <a:ext cx="691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2"/>
          <p:cNvSpPr/>
          <p:nvPr/>
        </p:nvSpPr>
        <p:spPr>
          <a:xfrm>
            <a:off x="304920" y="1212840"/>
            <a:ext cx="8577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67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10167"/>
                </a:solidFill>
                <a:latin typeface="黑体"/>
                <a:ea typeface="黑体"/>
              </a:rPr>
              <a:t>CO</a:t>
            </a: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10167"/>
                </a:solidFill>
                <a:latin typeface="黑体"/>
                <a:ea typeface="黑体"/>
              </a:rPr>
              <a:t>CO</a:t>
            </a:r>
            <a:r>
              <a:rPr b="1" lang="en-US" sz="2800" spc="-1" strike="noStrike" baseline="-25000">
                <a:solidFill>
                  <a:srgbClr val="010167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性质不同的原因是     （      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原子排列不同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子构成不同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对分子质量不同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成元素不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304920" y="3149640"/>
            <a:ext cx="8577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67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、用大小相同的试管分别收集满下列反应生成的气体，并将试管倒扣在盛有水的水槽中，试管内液面上升最高的是                       （      ）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石灰石和稀盐酸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过氧化氢和二氧化锰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高锰酸钾受热分解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碳不完全燃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4"/>
          <p:cNvSpPr/>
          <p:nvPr/>
        </p:nvSpPr>
        <p:spPr>
          <a:xfrm>
            <a:off x="208080" y="231840"/>
            <a:ext cx="1595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5"/>
          <p:cNvSpPr/>
          <p:nvPr/>
        </p:nvSpPr>
        <p:spPr>
          <a:xfrm>
            <a:off x="6350040" y="1212840"/>
            <a:ext cx="4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6"/>
          <p:cNvSpPr/>
          <p:nvPr/>
        </p:nvSpPr>
        <p:spPr>
          <a:xfrm>
            <a:off x="7026120" y="4005360"/>
            <a:ext cx="4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290520" y="1146240"/>
            <a:ext cx="8331120" cy="57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自然界中消耗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过程有如下的几个方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溶于海水、江、河、湖水；②绿色植物的光合作用；③动物的呼吸作用；④植物的呼吸作用；你认为正确的是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67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10167"/>
                </a:solidFill>
                <a:latin typeface="黑体"/>
                <a:ea typeface="黑体"/>
              </a:rPr>
              <a:t>、只有① </a:t>
            </a:r>
            <a:r>
              <a:rPr b="1" lang="en-US" sz="3200" spc="-1" strike="noStrike">
                <a:solidFill>
                  <a:srgbClr val="010167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10167"/>
                </a:solidFill>
                <a:latin typeface="黑体"/>
                <a:ea typeface="黑体"/>
              </a:rPr>
              <a:t>、①② </a:t>
            </a:r>
            <a:r>
              <a:rPr b="1" lang="en-US" sz="3200" spc="-1" strike="noStrike">
                <a:solidFill>
                  <a:srgbClr val="010167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010167"/>
                </a:solidFill>
                <a:latin typeface="黑体"/>
                <a:ea typeface="黑体"/>
              </a:rPr>
              <a:t>、①②③ </a:t>
            </a:r>
            <a:r>
              <a:rPr b="1" lang="en-US" sz="3200" spc="-1" strike="noStrike">
                <a:solidFill>
                  <a:srgbClr val="010167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010167"/>
                </a:solidFill>
                <a:latin typeface="黑体"/>
                <a:ea typeface="黑体"/>
              </a:rPr>
              <a:t>、①②③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217440" y="4179960"/>
            <a:ext cx="862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化学上把同种元素组成的不同单质互称为同素异形体，白磷和红磷，下列各组物质互为同素异形体的是  （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67"/>
                </a:solidFill>
                <a:latin typeface="黑体"/>
                <a:ea typeface="黑体"/>
              </a:rPr>
              <a:t>A.</a:t>
            </a: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一氧化碳和二氧化碳         </a:t>
            </a:r>
            <a:r>
              <a:rPr b="1" lang="en-US" sz="2800" spc="-1" strike="noStrike">
                <a:solidFill>
                  <a:srgbClr val="010167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．金刚石和石墨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67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．冰和干冰                  </a:t>
            </a:r>
            <a:r>
              <a:rPr b="1" lang="en-US" sz="2800" spc="-1" strike="noStrike">
                <a:solidFill>
                  <a:srgbClr val="010167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． 氧气和液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4"/>
          <p:cNvSpPr/>
          <p:nvPr/>
        </p:nvSpPr>
        <p:spPr>
          <a:xfrm>
            <a:off x="5560920" y="2697120"/>
            <a:ext cx="41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6"/>
          <p:cNvSpPr/>
          <p:nvPr/>
        </p:nvSpPr>
        <p:spPr>
          <a:xfrm>
            <a:off x="542880" y="5064120"/>
            <a:ext cx="102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208080" y="231840"/>
            <a:ext cx="1595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03040" y="1557360"/>
          <a:ext cx="8616960" cy="3672000"/>
        </p:xfrm>
        <a:graphic>
          <a:graphicData uri="http://schemas.openxmlformats.org/drawingml/2006/table">
            <a:tbl>
              <a:tblPr/>
              <a:tblGrid>
                <a:gridCol w="984240"/>
                <a:gridCol w="4608720"/>
                <a:gridCol w="30240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物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物理性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对应的主要用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 Box 20"/>
          <p:cNvSpPr/>
          <p:nvPr/>
        </p:nvSpPr>
        <p:spPr>
          <a:xfrm>
            <a:off x="1260360" y="2060640"/>
            <a:ext cx="43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67"/>
                </a:solidFill>
                <a:latin typeface="Comic Sans MS"/>
                <a:ea typeface="华文行楷"/>
              </a:rPr>
              <a:t>①</a:t>
            </a:r>
            <a:r>
              <a:rPr b="1" lang="zh-CN" sz="2800" spc="-1" strike="noStrike">
                <a:solidFill>
                  <a:srgbClr val="010167"/>
                </a:solidFill>
                <a:latin typeface="Comic Sans MS"/>
                <a:ea typeface="华文行楷"/>
              </a:rPr>
              <a:t>无色透明、正八面体形状的固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5869080" y="2131920"/>
            <a:ext cx="313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67"/>
                </a:solidFill>
                <a:latin typeface="Comic Sans MS"/>
                <a:ea typeface="华文行楷"/>
              </a:rPr>
              <a:t>①</a:t>
            </a:r>
            <a:r>
              <a:rPr b="1" lang="zh-CN" sz="2800" spc="-1" strike="noStrike">
                <a:solidFill>
                  <a:srgbClr val="010167"/>
                </a:solidFill>
                <a:latin typeface="Comic Sans MS"/>
                <a:ea typeface="华文行楷"/>
              </a:rPr>
              <a:t>装饰品</a:t>
            </a:r>
            <a:r>
              <a:rPr b="1" lang="en-US" sz="2800" spc="-1" strike="noStrike">
                <a:solidFill>
                  <a:srgbClr val="010167"/>
                </a:solidFill>
                <a:latin typeface="Comic Sans MS"/>
                <a:ea typeface="华文行楷"/>
              </a:rPr>
              <a:t>——</a:t>
            </a:r>
            <a:r>
              <a:rPr b="1" lang="zh-CN" sz="2800" spc="-1" strike="noStrike">
                <a:solidFill>
                  <a:srgbClr val="010167"/>
                </a:solidFill>
                <a:latin typeface="Comic Sans MS"/>
                <a:ea typeface="华文行楷"/>
              </a:rPr>
              <a:t>钻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2"/>
          <p:cNvSpPr/>
          <p:nvPr/>
        </p:nvSpPr>
        <p:spPr>
          <a:xfrm>
            <a:off x="1187280" y="292572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67"/>
                </a:solidFill>
                <a:latin typeface="Comic Sans MS"/>
                <a:ea typeface="华文行楷"/>
              </a:rPr>
              <a:t>②</a:t>
            </a:r>
            <a:r>
              <a:rPr b="1" lang="zh-CN" sz="2800" spc="-1" strike="noStrike">
                <a:solidFill>
                  <a:srgbClr val="010167"/>
                </a:solidFill>
                <a:latin typeface="Comic Sans MS"/>
                <a:ea typeface="华文行楷"/>
              </a:rPr>
              <a:t>天然存在最硬的物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869080" y="2781360"/>
            <a:ext cx="26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4"/>
          <p:cNvSpPr/>
          <p:nvPr/>
        </p:nvSpPr>
        <p:spPr>
          <a:xfrm>
            <a:off x="5724360" y="2997360"/>
            <a:ext cx="31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67"/>
                </a:solidFill>
                <a:latin typeface="Comic Sans MS"/>
                <a:ea typeface="华文行楷"/>
              </a:rPr>
              <a:t>②</a:t>
            </a:r>
            <a:r>
              <a:rPr b="1" lang="zh-CN" sz="2800" spc="-1" strike="noStrike">
                <a:solidFill>
                  <a:srgbClr val="010167"/>
                </a:solidFill>
                <a:latin typeface="Comic Sans MS"/>
                <a:ea typeface="华文行楷"/>
              </a:rPr>
              <a:t>划玻璃、钻头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5"/>
          <p:cNvSpPr/>
          <p:nvPr/>
        </p:nvSpPr>
        <p:spPr>
          <a:xfrm>
            <a:off x="1187280" y="3505320"/>
            <a:ext cx="4537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67"/>
                </a:solidFill>
                <a:latin typeface="Comic Sans MS"/>
                <a:ea typeface="华文行楷"/>
              </a:rPr>
              <a:t>①</a:t>
            </a:r>
            <a:r>
              <a:rPr b="1" lang="zh-CN" sz="2800" spc="-1" strike="noStrike">
                <a:solidFill>
                  <a:srgbClr val="010167"/>
                </a:solidFill>
                <a:latin typeface="Comic Sans MS"/>
                <a:ea typeface="华文行楷"/>
              </a:rPr>
              <a:t>深灰色、有金属光泽、不透明的细鳞片状固体、质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67"/>
                </a:solidFill>
                <a:latin typeface="Comic Sans MS"/>
              </a:rPr>
              <a:t>②</a:t>
            </a:r>
            <a:r>
              <a:rPr b="1" lang="zh-CN" sz="2800" spc="-1" strike="noStrike">
                <a:solidFill>
                  <a:srgbClr val="010167"/>
                </a:solidFill>
                <a:latin typeface="Comic Sans MS"/>
                <a:ea typeface="华文行楷"/>
              </a:rPr>
              <a:t>有滑腻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6"/>
          <p:cNvSpPr/>
          <p:nvPr/>
        </p:nvSpPr>
        <p:spPr>
          <a:xfrm>
            <a:off x="6423120" y="564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7"/>
          <p:cNvSpPr/>
          <p:nvPr/>
        </p:nvSpPr>
        <p:spPr>
          <a:xfrm>
            <a:off x="5796000" y="3645000"/>
            <a:ext cx="2987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67"/>
                </a:solidFill>
                <a:latin typeface="Comic Sans MS"/>
                <a:ea typeface="华文行楷"/>
              </a:rPr>
              <a:t>①</a:t>
            </a:r>
            <a:r>
              <a:rPr b="1" lang="zh-CN" sz="2800" spc="-1" strike="noStrike">
                <a:solidFill>
                  <a:srgbClr val="010167"/>
                </a:solidFill>
                <a:latin typeface="Comic Sans MS"/>
                <a:ea typeface="华文行楷"/>
              </a:rPr>
              <a:t>制造铅笔芯，         </a:t>
            </a:r>
            <a:r>
              <a:rPr b="1" lang="zh-CN" sz="3200" spc="-1" strike="noStrike">
                <a:solidFill>
                  <a:srgbClr val="010167"/>
                </a:solidFill>
                <a:latin typeface="Comic Sans MS"/>
              </a:rPr>
              <a:t>②</a:t>
            </a:r>
            <a:r>
              <a:rPr b="1" lang="zh-CN" sz="3200" spc="-1" strike="noStrike">
                <a:solidFill>
                  <a:srgbClr val="010167"/>
                </a:solidFill>
                <a:latin typeface="Comic Sans MS"/>
                <a:ea typeface="华文行楷"/>
              </a:rPr>
              <a:t>做润滑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8"/>
          <p:cNvSpPr/>
          <p:nvPr/>
        </p:nvSpPr>
        <p:spPr>
          <a:xfrm>
            <a:off x="1187280" y="4718160"/>
            <a:ext cx="44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67"/>
                </a:solidFill>
                <a:latin typeface="Comic Sans MS"/>
              </a:rPr>
              <a:t>③</a:t>
            </a:r>
            <a:r>
              <a:rPr b="1" lang="zh-CN" sz="2800" spc="-1" strike="noStrike">
                <a:solidFill>
                  <a:srgbClr val="010167"/>
                </a:solidFill>
                <a:latin typeface="Comic Sans MS"/>
                <a:ea typeface="华文行楷"/>
              </a:rPr>
              <a:t>优良的导电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5796000" y="4649760"/>
            <a:ext cx="280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67"/>
                </a:solidFill>
                <a:latin typeface="Comic Sans MS"/>
              </a:rPr>
              <a:t>③</a:t>
            </a:r>
            <a:r>
              <a:rPr b="1" lang="zh-CN" sz="3200" spc="-1" strike="noStrike">
                <a:solidFill>
                  <a:srgbClr val="010167"/>
                </a:solidFill>
                <a:latin typeface="Comic Sans MS"/>
                <a:ea typeface="华文行楷"/>
              </a:rPr>
              <a:t>石墨电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0"/>
          <p:cNvSpPr/>
          <p:nvPr/>
        </p:nvSpPr>
        <p:spPr>
          <a:xfrm>
            <a:off x="206280" y="920880"/>
            <a:ext cx="55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几种单质物理性质比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92240" y="190440"/>
            <a:ext cx="61322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知识点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碳单质的物理性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2"/>
          <p:cNvSpPr/>
          <p:nvPr/>
        </p:nvSpPr>
        <p:spPr>
          <a:xfrm>
            <a:off x="465120" y="5351400"/>
            <a:ext cx="54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217"/>
                </a:solidFill>
                <a:latin typeface="Comic Sans MS"/>
                <a:ea typeface="隶书"/>
              </a:rPr>
              <a:t>碳单质物理性质不同的原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3"/>
          <p:cNvSpPr/>
          <p:nvPr/>
        </p:nvSpPr>
        <p:spPr>
          <a:xfrm>
            <a:off x="1405080" y="5877000"/>
            <a:ext cx="6480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碳原子的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排列方式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2"/>
          <p:cNvSpPr/>
          <p:nvPr/>
        </p:nvSpPr>
        <p:spPr>
          <a:xfrm>
            <a:off x="611280" y="1341360"/>
            <a:ext cx="691344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3"/>
          <p:cNvSpPr/>
          <p:nvPr/>
        </p:nvSpPr>
        <p:spPr>
          <a:xfrm>
            <a:off x="252360" y="990720"/>
            <a:ext cx="8580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当氧化铜中混有少量炭粉时，下列除去炭粉的方法正确的是                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隔绝空气，将混合物加强热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空气中灼烧混合物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灼烧的温度达不到高温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在氢气流中加热混合物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加入足量的氧化铁后加强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4"/>
          <p:cNvSpPr/>
          <p:nvPr/>
        </p:nvSpPr>
        <p:spPr>
          <a:xfrm>
            <a:off x="5315400" y="1362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5"/>
          <p:cNvSpPr/>
          <p:nvPr/>
        </p:nvSpPr>
        <p:spPr>
          <a:xfrm>
            <a:off x="252360" y="3645000"/>
            <a:ext cx="8594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列做法不符合“低碳环保”理念的是 （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为了节约用纸，两面使用草稿纸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为了“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QQ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能够升级，长期把“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QQ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挂在线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为了提高资源利用率，将垃圾分类回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减少使用私家车次数，多乘公交车、骑自行车或步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6"/>
          <p:cNvSpPr/>
          <p:nvPr/>
        </p:nvSpPr>
        <p:spPr>
          <a:xfrm>
            <a:off x="7687080" y="3645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4"/>
          <p:cNvSpPr/>
          <p:nvPr/>
        </p:nvSpPr>
        <p:spPr>
          <a:xfrm>
            <a:off x="208080" y="231840"/>
            <a:ext cx="1595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2"/>
          <p:cNvSpPr/>
          <p:nvPr/>
        </p:nvSpPr>
        <p:spPr>
          <a:xfrm>
            <a:off x="250920" y="2298600"/>
            <a:ext cx="8499240" cy="288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. 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归纳与比较”是化学学习的主要方法，下列关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不同点比较错误的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成：一个二氧化碳分子比一个一氧化碳分子多一个氧原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性质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能溶于水，水溶液呈酸性；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难溶于水，但能燃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用途：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可用于光合作用、灭火等；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O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可做气体燃料，还可用于人工降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危害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会造成温室效应；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易与血液中的血红蛋白结合引起中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3"/>
          <p:cNvSpPr/>
          <p:nvPr/>
        </p:nvSpPr>
        <p:spPr>
          <a:xfrm>
            <a:off x="5807520" y="2060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208080" y="231840"/>
            <a:ext cx="1595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3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295280" y="4952880"/>
            <a:ext cx="5400720" cy="190512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85672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某学习小组围绕“气体实验室制取”进行了研讨。请你参与完成下面的问题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原理分析：实验室制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化学方程式为 </a:t>
            </a:r>
            <a:br>
              <a:rPr sz="2800"/>
            </a:b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      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N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盐酸反应制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原因是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       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发生装置：图①装置中仪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名称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实验室常用无水醋酸钠固体与碱石灰在加热的情况下制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应选图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填序号）发生装置。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0" y="1523880"/>
            <a:ext cx="60897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aC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+2HCl=CaC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+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O+C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304920" y="2895480"/>
            <a:ext cx="6089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反应快，不易控制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6962760" y="3514680"/>
            <a:ext cx="1495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锥形瓶</a:t>
            </a:r>
            <a:r>
              <a:rPr b="1" lang="zh-CN" sz="1600" spc="-1" strike="noStrike">
                <a:solidFill>
                  <a:srgbClr val="ff0000"/>
                </a:solidFill>
                <a:latin typeface="Comic Sans MS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2209680" y="4419720"/>
            <a:ext cx="122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②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560" y="1676160"/>
            <a:ext cx="830556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实验操作：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制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操作过程可概括为“组装仪器→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→           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→加热试管→收集气体→停止加热”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实验反思：在加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Cl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过程中，发现产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速率很慢，经检查不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Cl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质，也不是装置气密性不好，你认为最可能的原因是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4"/>
          <p:cNvSpPr/>
          <p:nvPr/>
        </p:nvSpPr>
        <p:spPr>
          <a:xfrm>
            <a:off x="0" y="0"/>
            <a:ext cx="856152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）收集装置：实验室收集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应采用的方法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。收集有毒气体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时，常采用③收集装置，气体应从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（填字母）端通入。（氨气极易溶于水）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5"/>
          <p:cNvSpPr/>
          <p:nvPr/>
        </p:nvSpPr>
        <p:spPr>
          <a:xfrm>
            <a:off x="685800" y="38088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向下排空气法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6"/>
          <p:cNvSpPr/>
          <p:nvPr/>
        </p:nvSpPr>
        <p:spPr>
          <a:xfrm>
            <a:off x="3886200" y="838080"/>
            <a:ext cx="690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7"/>
          <p:cNvSpPr/>
          <p:nvPr/>
        </p:nvSpPr>
        <p:spPr>
          <a:xfrm>
            <a:off x="3581280" y="2209680"/>
            <a:ext cx="2313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检查气密性</a:t>
            </a:r>
            <a:r>
              <a:rPr b="1" lang="zh-CN" sz="2000" spc="-1" strike="noStrike">
                <a:solidFill>
                  <a:srgbClr val="ff0000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8"/>
          <p:cNvSpPr/>
          <p:nvPr/>
        </p:nvSpPr>
        <p:spPr>
          <a:xfrm>
            <a:off x="7086600" y="2286000"/>
            <a:ext cx="16621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装药品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9"/>
          <p:cNvSpPr/>
          <p:nvPr/>
        </p:nvSpPr>
        <p:spPr>
          <a:xfrm>
            <a:off x="1303200" y="4343400"/>
            <a:ext cx="6088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没有加入催化剂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3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066680" y="4876920"/>
            <a:ext cx="7239240" cy="1981080"/>
          </a:xfrm>
          <a:prstGeom prst="rect">
            <a:avLst/>
          </a:prstGeom>
          <a:ln w="0">
            <a:noFill/>
          </a:ln>
        </p:spPr>
      </p:pic>
      <p:sp>
        <p:nvSpPr>
          <p:cNvPr id="495" name="直接连接符 11"/>
          <p:cNvSpPr/>
          <p:nvPr/>
        </p:nvSpPr>
        <p:spPr>
          <a:xfrm>
            <a:off x="6977160" y="274320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26600" y="219240"/>
            <a:ext cx="84582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根据下图，写出每个步骤的化学方程式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Group 34"/>
          <p:cNvGrpSpPr/>
          <p:nvPr/>
        </p:nvGrpSpPr>
        <p:grpSpPr>
          <a:xfrm>
            <a:off x="327600" y="2629080"/>
            <a:ext cx="2922480" cy="634320"/>
            <a:chOff x="327600" y="2629080"/>
            <a:chExt cx="2922480" cy="634320"/>
          </a:xfrm>
        </p:grpSpPr>
        <p:sp>
          <p:nvSpPr>
            <p:cNvPr id="498" name="Rectangle 35"/>
            <p:cNvSpPr/>
            <p:nvPr/>
          </p:nvSpPr>
          <p:spPr>
            <a:xfrm>
              <a:off x="327600" y="2803680"/>
              <a:ext cx="292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2CO + O2 ===2CO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Text Box 36"/>
            <p:cNvSpPr/>
            <p:nvPr/>
          </p:nvSpPr>
          <p:spPr>
            <a:xfrm>
              <a:off x="1809360" y="262908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Comic Sans MS"/>
                </a:rPr>
                <a:t>点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Line 4"/>
          <p:cNvSpPr/>
          <p:nvPr/>
        </p:nvSpPr>
        <p:spPr>
          <a:xfrm flipV="1">
            <a:off x="4356000" y="3444480"/>
            <a:ext cx="100800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5"/>
          <p:cNvSpPr/>
          <p:nvPr/>
        </p:nvSpPr>
        <p:spPr>
          <a:xfrm flipH="1">
            <a:off x="4428720" y="3516480"/>
            <a:ext cx="1079640" cy="71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6"/>
          <p:cNvSpPr/>
          <p:nvPr/>
        </p:nvSpPr>
        <p:spPr>
          <a:xfrm>
            <a:off x="4429080" y="33703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"/>
          <p:cNvSpPr/>
          <p:nvPr/>
        </p:nvSpPr>
        <p:spPr>
          <a:xfrm>
            <a:off x="4967280" y="38941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8"/>
          <p:cNvSpPr/>
          <p:nvPr/>
        </p:nvSpPr>
        <p:spPr>
          <a:xfrm>
            <a:off x="4643280" y="4762440"/>
            <a:ext cx="129708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9"/>
          <p:cNvSpPr/>
          <p:nvPr/>
        </p:nvSpPr>
        <p:spPr>
          <a:xfrm>
            <a:off x="5653080" y="5099040"/>
            <a:ext cx="214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0"/>
          <p:cNvSpPr/>
          <p:nvPr/>
        </p:nvSpPr>
        <p:spPr>
          <a:xfrm flipH="1" flipV="1">
            <a:off x="4356000" y="4762440"/>
            <a:ext cx="151128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1"/>
          <p:cNvSpPr/>
          <p:nvPr/>
        </p:nvSpPr>
        <p:spPr>
          <a:xfrm>
            <a:off x="5219640" y="45752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2"/>
          <p:cNvSpPr/>
          <p:nvPr/>
        </p:nvSpPr>
        <p:spPr>
          <a:xfrm>
            <a:off x="4859280" y="50799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3"/>
          <p:cNvSpPr/>
          <p:nvPr/>
        </p:nvSpPr>
        <p:spPr>
          <a:xfrm>
            <a:off x="1701720" y="505152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14"/>
          <p:cNvSpPr/>
          <p:nvPr/>
        </p:nvSpPr>
        <p:spPr>
          <a:xfrm flipV="1">
            <a:off x="2232000" y="4775040"/>
            <a:ext cx="1079640" cy="64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5"/>
          <p:cNvSpPr/>
          <p:nvPr/>
        </p:nvSpPr>
        <p:spPr>
          <a:xfrm>
            <a:off x="2771640" y="50990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6"/>
          <p:cNvSpPr/>
          <p:nvPr/>
        </p:nvSpPr>
        <p:spPr>
          <a:xfrm>
            <a:off x="1387440" y="3284640"/>
            <a:ext cx="13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17"/>
          <p:cNvSpPr/>
          <p:nvPr/>
        </p:nvSpPr>
        <p:spPr>
          <a:xfrm flipV="1">
            <a:off x="2052720" y="3946320"/>
            <a:ext cx="0" cy="122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8"/>
          <p:cNvSpPr/>
          <p:nvPr/>
        </p:nvSpPr>
        <p:spPr>
          <a:xfrm>
            <a:off x="1547640" y="43257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19"/>
          <p:cNvSpPr/>
          <p:nvPr/>
        </p:nvSpPr>
        <p:spPr>
          <a:xfrm>
            <a:off x="2268360" y="3537000"/>
            <a:ext cx="1079640" cy="64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0"/>
          <p:cNvSpPr/>
          <p:nvPr/>
        </p:nvSpPr>
        <p:spPr>
          <a:xfrm>
            <a:off x="2627280" y="337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3"/>
          <p:cNvSpPr/>
          <p:nvPr/>
        </p:nvSpPr>
        <p:spPr>
          <a:xfrm>
            <a:off x="3276720" y="4086360"/>
            <a:ext cx="1387440" cy="51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4"/>
          <p:cNvSpPr/>
          <p:nvPr/>
        </p:nvSpPr>
        <p:spPr>
          <a:xfrm>
            <a:off x="5508720" y="3117960"/>
            <a:ext cx="2519280" cy="51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21"/>
          <p:cNvSpPr/>
          <p:nvPr/>
        </p:nvSpPr>
        <p:spPr>
          <a:xfrm>
            <a:off x="3635280" y="2112840"/>
            <a:ext cx="5176800" cy="3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CaC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mic Sans MS"/>
                <a:ea typeface="楷体_GB2312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+2HCI=Ca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I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+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mic Sans MS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O+C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mic Sans MS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47"/>
          <p:cNvGrpSpPr/>
          <p:nvPr/>
        </p:nvGrpSpPr>
        <p:grpSpPr>
          <a:xfrm>
            <a:off x="738720" y="5905440"/>
            <a:ext cx="2970360" cy="510120"/>
            <a:chOff x="738720" y="5905440"/>
            <a:chExt cx="2970360" cy="510120"/>
          </a:xfrm>
        </p:grpSpPr>
        <p:sp>
          <p:nvSpPr>
            <p:cNvPr id="521" name="Rectangle 48"/>
            <p:cNvSpPr/>
            <p:nvPr/>
          </p:nvSpPr>
          <p:spPr>
            <a:xfrm>
              <a:off x="738720" y="5905440"/>
              <a:ext cx="2970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CO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 +H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O     H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CO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2" name="Group 49"/>
            <p:cNvGrpSpPr/>
            <p:nvPr/>
          </p:nvGrpSpPr>
          <p:grpSpPr>
            <a:xfrm>
              <a:off x="2350080" y="6124320"/>
              <a:ext cx="471240" cy="90720"/>
              <a:chOff x="2350080" y="6124320"/>
              <a:chExt cx="471240" cy="90720"/>
            </a:xfrm>
          </p:grpSpPr>
          <p:sp>
            <p:nvSpPr>
              <p:cNvPr id="523" name="Line 50"/>
              <p:cNvSpPr/>
              <p:nvPr/>
            </p:nvSpPr>
            <p:spPr>
              <a:xfrm>
                <a:off x="2364120" y="61243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Line 51"/>
              <p:cNvSpPr/>
              <p:nvPr/>
            </p:nvSpPr>
            <p:spPr>
              <a:xfrm>
                <a:off x="2350080" y="62150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5" name="Rectangle 56"/>
          <p:cNvSpPr/>
          <p:nvPr/>
        </p:nvSpPr>
        <p:spPr>
          <a:xfrm>
            <a:off x="3519360" y="1587600"/>
            <a:ext cx="593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+Ca(OH)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=  CaC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↓+ 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12"/>
          <p:cNvGrpSpPr/>
          <p:nvPr/>
        </p:nvGrpSpPr>
        <p:grpSpPr>
          <a:xfrm>
            <a:off x="339480" y="1987560"/>
            <a:ext cx="2384640" cy="820800"/>
            <a:chOff x="339480" y="1987560"/>
            <a:chExt cx="2384640" cy="820800"/>
          </a:xfrm>
        </p:grpSpPr>
        <p:sp>
          <p:nvSpPr>
            <p:cNvPr id="527" name="Text Box 4"/>
            <p:cNvSpPr/>
            <p:nvPr/>
          </p:nvSpPr>
          <p:spPr>
            <a:xfrm>
              <a:off x="339480" y="2228760"/>
              <a:ext cx="2384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omic Sans MS"/>
                </a:rPr>
                <a:t>C</a:t>
              </a:r>
              <a:r>
                <a:rPr b="1" lang="zh-CN" sz="2800" spc="-1" strike="noStrike">
                  <a:solidFill>
                    <a:srgbClr val="ff0000"/>
                  </a:solidFill>
                  <a:latin typeface="Comic Sans MS"/>
                </a:rPr>
                <a:t>＋</a:t>
              </a:r>
              <a:r>
                <a:rPr b="1" lang="en-US" sz="2800" spc="-1" strike="noStrike">
                  <a:solidFill>
                    <a:srgbClr val="ff0000"/>
                  </a:solidFill>
                  <a:latin typeface="Comic Sans MS"/>
                </a:rPr>
                <a:t>O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1" lang="en-US" sz="28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Comic Sans MS"/>
                </a:rPr>
                <a:t>＝ </a:t>
              </a:r>
              <a:r>
                <a:rPr b="1" lang="en-US" sz="2800" spc="-1" strike="noStrike">
                  <a:solidFill>
                    <a:srgbClr val="ff0000"/>
                  </a:solidFill>
                  <a:latin typeface="Comic Sans MS"/>
                </a:rPr>
                <a:t>CO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5"/>
            <p:cNvSpPr/>
            <p:nvPr/>
          </p:nvSpPr>
          <p:spPr>
            <a:xfrm>
              <a:off x="1438200" y="1987560"/>
              <a:ext cx="96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Comic Sans MS"/>
                </a:rPr>
                <a:t>点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组合 11"/>
          <p:cNvGrpSpPr/>
          <p:nvPr/>
        </p:nvGrpSpPr>
        <p:grpSpPr>
          <a:xfrm>
            <a:off x="266040" y="1285920"/>
            <a:ext cx="2672640" cy="820800"/>
            <a:chOff x="266040" y="1285920"/>
            <a:chExt cx="2672640" cy="820800"/>
          </a:xfrm>
        </p:grpSpPr>
        <p:sp>
          <p:nvSpPr>
            <p:cNvPr id="530" name="Text Box 6"/>
            <p:cNvSpPr/>
            <p:nvPr/>
          </p:nvSpPr>
          <p:spPr>
            <a:xfrm>
              <a:off x="266040" y="1527120"/>
              <a:ext cx="2672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omic Sans MS"/>
                </a:rPr>
                <a:t>2C</a:t>
              </a:r>
              <a:r>
                <a:rPr b="1" lang="zh-CN" sz="2800" spc="-1" strike="noStrike">
                  <a:solidFill>
                    <a:srgbClr val="ff0000"/>
                  </a:solidFill>
                  <a:latin typeface="Comic Sans MS"/>
                </a:rPr>
                <a:t>＋</a:t>
              </a:r>
              <a:r>
                <a:rPr b="1" lang="en-US" sz="2800" spc="-1" strike="noStrike">
                  <a:solidFill>
                    <a:srgbClr val="ff0000"/>
                  </a:solidFill>
                  <a:latin typeface="Comic Sans MS"/>
                </a:rPr>
                <a:t>O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1" lang="en-US" sz="28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Comic Sans MS"/>
                </a:rPr>
                <a:t>＝ </a:t>
              </a:r>
              <a:r>
                <a:rPr b="1" lang="en-US" sz="2800" spc="-1" strike="noStrike">
                  <a:solidFill>
                    <a:srgbClr val="ff0000"/>
                  </a:solidFill>
                  <a:latin typeface="Comic Sans MS"/>
                </a:rPr>
                <a:t>2C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7"/>
            <p:cNvSpPr/>
            <p:nvPr/>
          </p:nvSpPr>
          <p:spPr>
            <a:xfrm>
              <a:off x="1717560" y="12859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Comic Sans MS"/>
                </a:rPr>
                <a:t>点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矩形 59"/>
          <p:cNvSpPr/>
          <p:nvPr/>
        </p:nvSpPr>
        <p:spPr>
          <a:xfrm>
            <a:off x="4411080" y="5905440"/>
            <a:ext cx="355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  = C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↑  +  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组合 42"/>
          <p:cNvGrpSpPr/>
          <p:nvPr/>
        </p:nvGrpSpPr>
        <p:grpSpPr>
          <a:xfrm>
            <a:off x="4022640" y="2540160"/>
            <a:ext cx="3251160" cy="687240"/>
            <a:chOff x="4022640" y="2540160"/>
            <a:chExt cx="3251160" cy="687240"/>
          </a:xfrm>
        </p:grpSpPr>
        <p:sp>
          <p:nvSpPr>
            <p:cNvPr id="534" name="矩形 5"/>
            <p:cNvSpPr/>
            <p:nvPr/>
          </p:nvSpPr>
          <p:spPr>
            <a:xfrm>
              <a:off x="5025600" y="25401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Comic Sans MS"/>
                </a:rPr>
                <a:t>高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矩形 44"/>
            <p:cNvSpPr/>
            <p:nvPr/>
          </p:nvSpPr>
          <p:spPr>
            <a:xfrm>
              <a:off x="4022640" y="2759040"/>
              <a:ext cx="325116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CaCO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Comic Sans MS"/>
                </a:rPr>
                <a:t>3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 =  CaO+CO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↑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Text Box 4"/>
          <p:cNvSpPr/>
          <p:nvPr/>
        </p:nvSpPr>
        <p:spPr>
          <a:xfrm>
            <a:off x="236520" y="204840"/>
            <a:ext cx="1595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108000" y="1035000"/>
            <a:ext cx="7489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67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10167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）常温下化学性质：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10167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）可燃性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木炭在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氧气充足</a:t>
            </a: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情况下燃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木炭在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氧气不足</a:t>
            </a: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情况下燃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10167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）还原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木炭还原氧化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焦炭还原氧化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3936960" y="1509840"/>
            <a:ext cx="36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稳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组合 14"/>
          <p:cNvGrpSpPr/>
          <p:nvPr/>
        </p:nvGrpSpPr>
        <p:grpSpPr>
          <a:xfrm>
            <a:off x="5478480" y="2635200"/>
            <a:ext cx="2448000" cy="795600"/>
            <a:chOff x="5478480" y="2635200"/>
            <a:chExt cx="2448000" cy="795600"/>
          </a:xfrm>
        </p:grpSpPr>
        <p:sp>
          <p:nvSpPr>
            <p:cNvPr id="69" name="Text Box 4"/>
            <p:cNvSpPr/>
            <p:nvPr/>
          </p:nvSpPr>
          <p:spPr>
            <a:xfrm>
              <a:off x="5478480" y="2851200"/>
              <a:ext cx="244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＋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＝ 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5"/>
            <p:cNvSpPr/>
            <p:nvPr/>
          </p:nvSpPr>
          <p:spPr>
            <a:xfrm>
              <a:off x="6602040" y="26352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点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组合 15"/>
          <p:cNvGrpSpPr/>
          <p:nvPr/>
        </p:nvGrpSpPr>
        <p:grpSpPr>
          <a:xfrm>
            <a:off x="5330880" y="1971720"/>
            <a:ext cx="2693880" cy="1233000"/>
            <a:chOff x="5330880" y="1971720"/>
            <a:chExt cx="2693880" cy="1233000"/>
          </a:xfrm>
        </p:grpSpPr>
        <p:sp>
          <p:nvSpPr>
            <p:cNvPr id="72" name="Text Box 6"/>
            <p:cNvSpPr/>
            <p:nvPr/>
          </p:nvSpPr>
          <p:spPr>
            <a:xfrm>
              <a:off x="5330880" y="2198520"/>
              <a:ext cx="269388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2C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＋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＝ 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2C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7"/>
            <p:cNvSpPr/>
            <p:nvPr/>
          </p:nvSpPr>
          <p:spPr>
            <a:xfrm>
              <a:off x="6746040" y="19717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点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组合 12"/>
          <p:cNvGrpSpPr/>
          <p:nvPr/>
        </p:nvGrpSpPr>
        <p:grpSpPr>
          <a:xfrm>
            <a:off x="3243240" y="3294000"/>
            <a:ext cx="5564160" cy="838440"/>
            <a:chOff x="3243240" y="3294000"/>
            <a:chExt cx="5564160" cy="838440"/>
          </a:xfrm>
        </p:grpSpPr>
        <p:sp>
          <p:nvSpPr>
            <p:cNvPr id="75" name="Text Box 8"/>
            <p:cNvSpPr/>
            <p:nvPr/>
          </p:nvSpPr>
          <p:spPr>
            <a:xfrm>
              <a:off x="3243240" y="3552840"/>
              <a:ext cx="5564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＋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2CuO 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＝ 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2Cu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＋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9"/>
            <p:cNvSpPr/>
            <p:nvPr/>
          </p:nvSpPr>
          <p:spPr>
            <a:xfrm>
              <a:off x="4999680" y="32940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高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 Box 10"/>
          <p:cNvSpPr/>
          <p:nvPr/>
        </p:nvSpPr>
        <p:spPr>
          <a:xfrm>
            <a:off x="210960" y="873000"/>
            <a:ext cx="5583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、碳单质的化学性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组合 13"/>
          <p:cNvGrpSpPr/>
          <p:nvPr/>
        </p:nvGrpSpPr>
        <p:grpSpPr>
          <a:xfrm>
            <a:off x="3142440" y="4071960"/>
            <a:ext cx="4632480" cy="853560"/>
            <a:chOff x="3142440" y="4071960"/>
            <a:chExt cx="4632480" cy="853560"/>
          </a:xfrm>
        </p:grpSpPr>
        <p:sp>
          <p:nvSpPr>
            <p:cNvPr id="79" name="矩形 10"/>
            <p:cNvSpPr/>
            <p:nvPr/>
          </p:nvSpPr>
          <p:spPr>
            <a:xfrm>
              <a:off x="3142440" y="4345920"/>
              <a:ext cx="4632480" cy="57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omic Sans MS"/>
                </a:rPr>
                <a:t>3C+ 2Fe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1" lang="en-US" sz="2800" spc="-1" strike="noStrike">
                  <a:solidFill>
                    <a:srgbClr val="ff0000"/>
                  </a:solidFill>
                  <a:latin typeface="Comic Sans MS"/>
                </a:rPr>
                <a:t>O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Comic Sans MS"/>
                </a:rPr>
                <a:t>3</a:t>
              </a:r>
              <a:r>
                <a:rPr b="1" lang="en-US" sz="2800" spc="-1" strike="noStrike">
                  <a:solidFill>
                    <a:srgbClr val="ff0000"/>
                  </a:solidFill>
                  <a:latin typeface="Comic Sans MS"/>
                </a:rPr>
                <a:t> = 4Fe + 3CO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1" lang="en-US" sz="2800" spc="-1" strike="noStrike">
                  <a:solidFill>
                    <a:srgbClr val="ff0000"/>
                  </a:solidFill>
                  <a:latin typeface="Comic Sans MS"/>
                </a:rPr>
                <a:t>↑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5"/>
            <p:cNvSpPr/>
            <p:nvPr/>
          </p:nvSpPr>
          <p:spPr>
            <a:xfrm>
              <a:off x="4934520" y="40719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高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2"/>
          <p:cNvSpPr/>
          <p:nvPr/>
        </p:nvSpPr>
        <p:spPr>
          <a:xfrm>
            <a:off x="192240" y="190440"/>
            <a:ext cx="61322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知识点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碳单质的化学性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236520" y="1197000"/>
            <a:ext cx="890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、下列是几种物质的结构模型，其中硬度最大的是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金刚石晶体结构"/>
          <p:cNvPicPr/>
          <p:nvPr/>
        </p:nvPicPr>
        <p:blipFill>
          <a:blip r:embed="rId1"/>
          <a:stretch/>
        </p:blipFill>
        <p:spPr>
          <a:xfrm>
            <a:off x="541440" y="2131920"/>
            <a:ext cx="1655640" cy="1524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石墨晶体结构"/>
          <p:cNvPicPr/>
          <p:nvPr/>
        </p:nvPicPr>
        <p:blipFill>
          <a:blip r:embed="rId2"/>
          <a:stretch/>
        </p:blipFill>
        <p:spPr>
          <a:xfrm>
            <a:off x="2557440" y="2131920"/>
            <a:ext cx="1655640" cy="1495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2009212151336796"/>
          <p:cNvPicPr/>
          <p:nvPr/>
        </p:nvPicPr>
        <p:blipFill>
          <a:blip r:embed="rId3"/>
          <a:stretch/>
        </p:blipFill>
        <p:spPr>
          <a:xfrm>
            <a:off x="6732720" y="2203560"/>
            <a:ext cx="1512720" cy="1438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4"/>
          <a:srcRect l="28860" t="10131" r="18403" b="16395"/>
          <a:stretch/>
        </p:blipFill>
        <p:spPr>
          <a:xfrm>
            <a:off x="4573440" y="2131920"/>
            <a:ext cx="1513080" cy="15130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684360" y="378792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金刚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2916360" y="37893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石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4859280" y="3789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干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7021440" y="3859200"/>
            <a:ext cx="12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氯化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237960" y="212760"/>
            <a:ext cx="16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2"/>
          <p:cNvSpPr/>
          <p:nvPr/>
        </p:nvSpPr>
        <p:spPr>
          <a:xfrm>
            <a:off x="611280" y="4508640"/>
            <a:ext cx="824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67"/>
                </a:solidFill>
                <a:latin typeface="Comic Sans MS"/>
              </a:rPr>
              <a:t>问题</a:t>
            </a:r>
            <a:r>
              <a:rPr b="1" lang="en-US" sz="2800" spc="-1" strike="noStrike">
                <a:solidFill>
                  <a:srgbClr val="010167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10167"/>
                </a:solidFill>
                <a:latin typeface="Comic Sans MS"/>
              </a:rPr>
              <a:t>：金刚石与石墨硬度存在巨大差异的原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803160" y="144792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11280" y="5373720"/>
            <a:ext cx="77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67"/>
                </a:solidFill>
                <a:latin typeface="Comic Sans MS"/>
              </a:rPr>
              <a:t>问题</a:t>
            </a:r>
            <a:r>
              <a:rPr b="1" lang="en-US" sz="2800" spc="-1" strike="noStrike">
                <a:solidFill>
                  <a:srgbClr val="010167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10167"/>
                </a:solidFill>
                <a:latin typeface="Comic Sans MS"/>
              </a:rPr>
              <a:t>：这四种物质分别由什么微粒构成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1743120" y="4869000"/>
            <a:ext cx="5781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碳原子的排列方式不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108000" y="5805360"/>
            <a:ext cx="8569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碳原子、碳原子、二氧化碳分子、钠离子和氯离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31840" y="731520"/>
            <a:ext cx="86500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下列几种情况，能证明“金刚石和石墨是由相同元素组成”的事实是（     ） </a:t>
            </a:r>
            <a:br>
              <a:rPr sz="2800"/>
            </a:br>
            <a:r>
              <a:rPr b="0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A.</a:t>
            </a: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它们的熔点相同      </a:t>
            </a:r>
            <a:r>
              <a:rPr b="0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B.</a:t>
            </a: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都不溶于水 </a:t>
            </a:r>
            <a:br>
              <a:rPr sz="2800"/>
            </a:br>
            <a:r>
              <a:rPr b="0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C.</a:t>
            </a: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石墨在一定条件下可转化为金刚石 </a:t>
            </a:r>
            <a:br>
              <a:rPr sz="2800"/>
            </a:br>
            <a:r>
              <a:rPr b="0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D.</a:t>
            </a: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完全燃烧后都得同一产物</a:t>
            </a:r>
            <a:r>
              <a:rPr b="0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氧化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114800" y="1219320"/>
            <a:ext cx="52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203040" y="3295800"/>
            <a:ext cx="8650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试管内有黑色粉末，加热后变成红色固体，同时生成使澄清石灰水变浑浊的气体，这黑色粉末是 （    ）                                      </a:t>
            </a:r>
            <a:r>
              <a:rPr b="1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、氧化铜              </a:t>
            </a:r>
            <a:r>
              <a:rPr b="1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、四氧化三铁与木炭粉</a:t>
            </a:r>
            <a:br>
              <a:rPr sz="2400"/>
            </a:br>
            <a:r>
              <a:rPr b="1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、铜与木炭粉          </a:t>
            </a:r>
            <a:r>
              <a:rPr b="1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D</a:t>
            </a:r>
            <a:r>
              <a:rPr b="1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、氧化铜与木炭粉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262080" y="4984920"/>
            <a:ext cx="8650080" cy="138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古代字画能长期保存是由于单质碳在常温下具有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    </a:t>
            </a:r>
            <a:r>
              <a:rPr b="1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A. </a:t>
            </a:r>
            <a:r>
              <a:rPr b="1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稳定性</a:t>
            </a:r>
            <a:r>
              <a:rPr b="1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	</a:t>
            </a:r>
            <a:r>
              <a:rPr b="1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   </a:t>
            </a:r>
            <a:r>
              <a:rPr b="1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B. </a:t>
            </a:r>
            <a:r>
              <a:rPr b="1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氧化性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C. </a:t>
            </a:r>
            <a:r>
              <a:rPr b="1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还原性   </a:t>
            </a:r>
            <a:r>
              <a:rPr b="1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D. </a:t>
            </a:r>
            <a:r>
              <a:rPr b="1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助燃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5715000" y="3505320"/>
            <a:ext cx="68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7620120" y="5029200"/>
            <a:ext cx="68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237960" y="21276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练一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233280" y="1041480"/>
            <a:ext cx="68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、二氧化碳和一氧化碳的物理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68360" y="1636560"/>
          <a:ext cx="8153280" cy="4592880"/>
        </p:xfrm>
        <a:graphic>
          <a:graphicData uri="http://schemas.openxmlformats.org/drawingml/2006/table">
            <a:tbl>
              <a:tblPr/>
              <a:tblGrid>
                <a:gridCol w="503280"/>
                <a:gridCol w="2376360"/>
                <a:gridCol w="2311560"/>
                <a:gridCol w="2962080"/>
              </a:tblGrid>
              <a:tr h="719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物理性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颜色状态气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密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溶解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140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收集方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32"/>
          <p:cNvSpPr/>
          <p:nvPr/>
        </p:nvSpPr>
        <p:spPr>
          <a:xfrm>
            <a:off x="6300360" y="25131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67"/>
                </a:solidFill>
                <a:latin typeface="Comic Sans MS"/>
                <a:ea typeface="黑体"/>
              </a:rPr>
              <a:t>无色无味气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3"/>
          <p:cNvSpPr/>
          <p:nvPr/>
        </p:nvSpPr>
        <p:spPr>
          <a:xfrm>
            <a:off x="4041360" y="3413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67"/>
                </a:solidFill>
                <a:latin typeface="Comic Sans MS"/>
                <a:ea typeface="黑体"/>
              </a:rPr>
              <a:t>比空气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4"/>
          <p:cNvSpPr/>
          <p:nvPr/>
        </p:nvSpPr>
        <p:spPr>
          <a:xfrm>
            <a:off x="6304680" y="34131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67"/>
                </a:solidFill>
                <a:latin typeface="Comic Sans MS"/>
                <a:ea typeface="黑体"/>
              </a:rPr>
              <a:t>比空气略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5"/>
          <p:cNvSpPr/>
          <p:nvPr/>
        </p:nvSpPr>
        <p:spPr>
          <a:xfrm>
            <a:off x="4069080" y="4403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67"/>
                </a:solidFill>
                <a:latin typeface="Comic Sans MS"/>
                <a:ea typeface="黑体"/>
              </a:rPr>
              <a:t>能溶于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6"/>
          <p:cNvSpPr/>
          <p:nvPr/>
        </p:nvSpPr>
        <p:spPr>
          <a:xfrm>
            <a:off x="6309000" y="44179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67"/>
                </a:solidFill>
                <a:latin typeface="Comic Sans MS"/>
                <a:ea typeface="黑体"/>
              </a:rPr>
              <a:t>难溶于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7"/>
          <p:cNvSpPr/>
          <p:nvPr/>
        </p:nvSpPr>
        <p:spPr>
          <a:xfrm>
            <a:off x="3327480" y="5283360"/>
            <a:ext cx="25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67"/>
                </a:solidFill>
                <a:latin typeface="Comic Sans MS"/>
                <a:ea typeface="黑体"/>
              </a:rPr>
              <a:t>通常用向上排空气法收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8"/>
          <p:cNvSpPr/>
          <p:nvPr/>
        </p:nvSpPr>
        <p:spPr>
          <a:xfrm>
            <a:off x="5580000" y="5489640"/>
            <a:ext cx="34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67"/>
                </a:solidFill>
                <a:latin typeface="Comic Sans MS"/>
                <a:ea typeface="黑体"/>
              </a:rPr>
              <a:t>只能用排水法收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9"/>
          <p:cNvSpPr/>
          <p:nvPr/>
        </p:nvSpPr>
        <p:spPr>
          <a:xfrm>
            <a:off x="3419640" y="2421000"/>
            <a:ext cx="235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67"/>
                </a:solidFill>
                <a:latin typeface="Comic Sans MS"/>
                <a:ea typeface="黑体"/>
              </a:rPr>
              <a:t>无色无味气体</a:t>
            </a:r>
            <a:r>
              <a:rPr b="1" lang="zh-CN" sz="2800" spc="-1" strike="noStrike">
                <a:solidFill>
                  <a:srgbClr val="010167"/>
                </a:solidFill>
                <a:latin typeface="Arial"/>
                <a:ea typeface="黑体"/>
              </a:rPr>
              <a:t>固体为干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0"/>
          <p:cNvSpPr/>
          <p:nvPr/>
        </p:nvSpPr>
        <p:spPr>
          <a:xfrm>
            <a:off x="-1773360" y="1720800"/>
            <a:ext cx="18432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192240" y="190440"/>
            <a:ext cx="61322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知识点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碳的氧化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324000" y="1951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、二氧化碳和一氧化碳的化学性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42920" y="816120"/>
          <a:ext cx="8856720" cy="5602320"/>
        </p:xfrm>
        <a:graphic>
          <a:graphicData uri="http://schemas.openxmlformats.org/drawingml/2006/table">
            <a:tbl>
              <a:tblPr/>
              <a:tblGrid>
                <a:gridCol w="1231920"/>
                <a:gridCol w="4370400"/>
                <a:gridCol w="3254400"/>
              </a:tblGrid>
              <a:tr h="69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8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可燃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氧化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2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还原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1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跟水反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6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跟碱反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8" name="Rectangle 33"/>
          <p:cNvSpPr/>
          <p:nvPr/>
        </p:nvSpPr>
        <p:spPr>
          <a:xfrm>
            <a:off x="1943280" y="1636560"/>
            <a:ext cx="34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不可燃、一般不助燃、不能供给呼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34"/>
          <p:cNvGrpSpPr/>
          <p:nvPr/>
        </p:nvGrpSpPr>
        <p:grpSpPr>
          <a:xfrm>
            <a:off x="5303160" y="2050920"/>
            <a:ext cx="3264840" cy="667080"/>
            <a:chOff x="5303160" y="2050920"/>
            <a:chExt cx="3264840" cy="667080"/>
          </a:xfrm>
        </p:grpSpPr>
        <p:sp>
          <p:nvSpPr>
            <p:cNvPr id="120" name="Rectangle 35"/>
            <p:cNvSpPr/>
            <p:nvPr/>
          </p:nvSpPr>
          <p:spPr>
            <a:xfrm>
              <a:off x="5303160" y="2197440"/>
              <a:ext cx="326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167"/>
                  </a:solidFill>
                  <a:latin typeface="黑体"/>
                  <a:ea typeface="黑体"/>
                </a:rPr>
                <a:t>  </a:t>
              </a:r>
              <a:r>
                <a:rPr b="1" lang="en-US" sz="2800" spc="-1" strike="noStrike">
                  <a:solidFill>
                    <a:srgbClr val="010167"/>
                  </a:solidFill>
                  <a:latin typeface="黑体"/>
                  <a:ea typeface="黑体"/>
                </a:rPr>
                <a:t>2CO+O</a:t>
              </a:r>
              <a:r>
                <a:rPr b="1" lang="en-US" sz="2000" spc="-1" strike="noStrike">
                  <a:solidFill>
                    <a:srgbClr val="010167"/>
                  </a:solidFill>
                  <a:latin typeface="黑体"/>
                  <a:ea typeface="黑体"/>
                </a:rPr>
                <a:t>2</a:t>
              </a:r>
              <a:r>
                <a:rPr b="1" lang="en-US" sz="2800" spc="-1" strike="noStrike">
                  <a:solidFill>
                    <a:srgbClr val="010167"/>
                  </a:solidFill>
                  <a:latin typeface="黑体"/>
                  <a:ea typeface="黑体"/>
                </a:rPr>
                <a:t> ===2CO</a:t>
              </a:r>
              <a:r>
                <a:rPr b="1" lang="en-US" sz="2000" spc="-1" strike="noStrike">
                  <a:solidFill>
                    <a:srgbClr val="010167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36"/>
            <p:cNvSpPr/>
            <p:nvPr/>
          </p:nvSpPr>
          <p:spPr>
            <a:xfrm>
              <a:off x="7116840" y="2050920"/>
              <a:ext cx="85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10167"/>
                  </a:solidFill>
                  <a:latin typeface="黑体"/>
                  <a:ea typeface="黑体"/>
                </a:rPr>
                <a:t>点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37"/>
          <p:cNvGrpSpPr/>
          <p:nvPr/>
        </p:nvGrpSpPr>
        <p:grpSpPr>
          <a:xfrm>
            <a:off x="5384880" y="3522600"/>
            <a:ext cx="3758760" cy="1069920"/>
            <a:chOff x="5384880" y="3522600"/>
            <a:chExt cx="3758760" cy="1069920"/>
          </a:xfrm>
        </p:grpSpPr>
        <p:sp>
          <p:nvSpPr>
            <p:cNvPr id="123" name="Rectangle 38"/>
            <p:cNvSpPr/>
            <p:nvPr/>
          </p:nvSpPr>
          <p:spPr>
            <a:xfrm>
              <a:off x="5384880" y="3586320"/>
              <a:ext cx="375876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167"/>
                  </a:solidFill>
                  <a:latin typeface="黑体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010167"/>
                  </a:solidFill>
                  <a:latin typeface="黑体"/>
                  <a:ea typeface="黑体"/>
                </a:rPr>
                <a:t>CuO + CO==Cu + CO</a:t>
              </a:r>
              <a:r>
                <a:rPr b="1" lang="en-US" sz="2800" spc="-1" strike="noStrike" baseline="-25000">
                  <a:solidFill>
                    <a:srgbClr val="010167"/>
                  </a:solidFill>
                  <a:latin typeface="黑体"/>
                  <a:ea typeface="黑体"/>
                </a:rPr>
                <a:t>2</a:t>
              </a:r>
              <a:r>
                <a:rPr b="1" lang="en-US" sz="2800" spc="-1" strike="noStrike">
                  <a:solidFill>
                    <a:srgbClr val="010167"/>
                  </a:solidFill>
                  <a:latin typeface="黑体"/>
                  <a:ea typeface="黑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39"/>
            <p:cNvSpPr/>
            <p:nvPr/>
          </p:nvSpPr>
          <p:spPr>
            <a:xfrm>
              <a:off x="6935040" y="3522600"/>
              <a:ext cx="73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167"/>
                  </a:solidFill>
                  <a:latin typeface="黑体"/>
                  <a:ea typeface="黑体"/>
                </a:rPr>
                <a:t>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40"/>
          <p:cNvSpPr/>
          <p:nvPr/>
        </p:nvSpPr>
        <p:spPr>
          <a:xfrm>
            <a:off x="6336720" y="46245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一般不跟水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1"/>
          <p:cNvSpPr/>
          <p:nvPr/>
        </p:nvSpPr>
        <p:spPr>
          <a:xfrm>
            <a:off x="6615360" y="5732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一般不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42"/>
          <p:cNvGrpSpPr/>
          <p:nvPr/>
        </p:nvGrpSpPr>
        <p:grpSpPr>
          <a:xfrm>
            <a:off x="3055680" y="2819520"/>
            <a:ext cx="2644920" cy="836640"/>
            <a:chOff x="3055680" y="2819520"/>
            <a:chExt cx="2644920" cy="836640"/>
          </a:xfrm>
        </p:grpSpPr>
        <p:sp>
          <p:nvSpPr>
            <p:cNvPr id="128" name="Rectangle 43"/>
            <p:cNvSpPr/>
            <p:nvPr/>
          </p:nvSpPr>
          <p:spPr>
            <a:xfrm>
              <a:off x="3055680" y="3076560"/>
              <a:ext cx="2644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167"/>
                  </a:solidFill>
                  <a:latin typeface="黑体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010167"/>
                  </a:solidFill>
                  <a:latin typeface="黑体"/>
                  <a:ea typeface="黑体"/>
                </a:rPr>
                <a:t>C+CO</a:t>
              </a:r>
              <a:r>
                <a:rPr b="1" lang="en-US" sz="2800" spc="-1" strike="noStrike" baseline="-25000">
                  <a:solidFill>
                    <a:srgbClr val="010167"/>
                  </a:solidFill>
                  <a:latin typeface="黑体"/>
                  <a:ea typeface="黑体"/>
                </a:rPr>
                <a:t>2</a:t>
              </a:r>
              <a:r>
                <a:rPr b="1" lang="en-US" sz="2800" spc="-1" strike="noStrike">
                  <a:solidFill>
                    <a:srgbClr val="010167"/>
                  </a:solidFill>
                  <a:latin typeface="黑体"/>
                  <a:ea typeface="黑体"/>
                </a:rPr>
                <a:t>===2C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44"/>
            <p:cNvSpPr/>
            <p:nvPr/>
          </p:nvSpPr>
          <p:spPr>
            <a:xfrm>
              <a:off x="4317480" y="2819520"/>
              <a:ext cx="114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10167"/>
                  </a:solidFill>
                  <a:latin typeface="黑体"/>
                  <a:ea typeface="黑体"/>
                </a:rPr>
                <a:t>高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Text Box 53"/>
          <p:cNvSpPr/>
          <p:nvPr/>
        </p:nvSpPr>
        <p:spPr>
          <a:xfrm>
            <a:off x="8151840" y="-11160"/>
            <a:ext cx="1839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4"/>
          <p:cNvSpPr/>
          <p:nvPr/>
        </p:nvSpPr>
        <p:spPr>
          <a:xfrm>
            <a:off x="2629080" y="3703680"/>
            <a:ext cx="73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5"/>
          <p:cNvSpPr/>
          <p:nvPr/>
        </p:nvSpPr>
        <p:spPr>
          <a:xfrm>
            <a:off x="7128000" y="2862360"/>
            <a:ext cx="73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32"/>
          <p:cNvGrpSpPr/>
          <p:nvPr/>
        </p:nvGrpSpPr>
        <p:grpSpPr>
          <a:xfrm>
            <a:off x="1465920" y="4363920"/>
            <a:ext cx="4150440" cy="1200600"/>
            <a:chOff x="1465920" y="4363920"/>
            <a:chExt cx="4150440" cy="1200600"/>
          </a:xfrm>
        </p:grpSpPr>
        <p:grpSp>
          <p:nvGrpSpPr>
            <p:cNvPr id="134" name="Group 46"/>
            <p:cNvGrpSpPr/>
            <p:nvPr/>
          </p:nvGrpSpPr>
          <p:grpSpPr>
            <a:xfrm>
              <a:off x="1465920" y="4363920"/>
              <a:ext cx="4150440" cy="970200"/>
              <a:chOff x="1465920" y="4363920"/>
              <a:chExt cx="4150440" cy="970200"/>
            </a:xfrm>
          </p:grpSpPr>
          <p:grpSp>
            <p:nvGrpSpPr>
              <p:cNvPr id="135" name="Group 47"/>
              <p:cNvGrpSpPr/>
              <p:nvPr/>
            </p:nvGrpSpPr>
            <p:grpSpPr>
              <a:xfrm>
                <a:off x="1465920" y="4363920"/>
                <a:ext cx="3049920" cy="510120"/>
                <a:chOff x="1465920" y="4363920"/>
                <a:chExt cx="3049920" cy="510120"/>
              </a:xfrm>
            </p:grpSpPr>
            <p:sp>
              <p:nvSpPr>
                <p:cNvPr id="136" name="Rectangle 48"/>
                <p:cNvSpPr/>
                <p:nvPr/>
              </p:nvSpPr>
              <p:spPr>
                <a:xfrm>
                  <a:off x="1465920" y="4363920"/>
                  <a:ext cx="30499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10167"/>
                      </a:solidFill>
                      <a:latin typeface="黑体"/>
                      <a:ea typeface="黑体"/>
                    </a:rPr>
                    <a:t>  </a:t>
                  </a:r>
                  <a:r>
                    <a:rPr b="1" lang="en-US" sz="2400" spc="-1" strike="noStrike">
                      <a:solidFill>
                        <a:srgbClr val="010167"/>
                      </a:solidFill>
                      <a:latin typeface="黑体"/>
                      <a:ea typeface="黑体"/>
                    </a:rPr>
                    <a:t>CO</a:t>
                  </a:r>
                  <a:r>
                    <a:rPr b="1" lang="en-US" sz="2400" spc="-1" strike="noStrike" baseline="-25000">
                      <a:solidFill>
                        <a:srgbClr val="010167"/>
                      </a:solidFill>
                      <a:latin typeface="黑体"/>
                      <a:ea typeface="黑体"/>
                    </a:rPr>
                    <a:t>2</a:t>
                  </a:r>
                  <a:r>
                    <a:rPr b="1" lang="en-US" sz="2400" spc="-1" strike="noStrike">
                      <a:solidFill>
                        <a:srgbClr val="010167"/>
                      </a:solidFill>
                      <a:latin typeface="黑体"/>
                      <a:ea typeface="黑体"/>
                    </a:rPr>
                    <a:t> +H</a:t>
                  </a:r>
                  <a:r>
                    <a:rPr b="1" lang="en-US" sz="2400" spc="-1" strike="noStrike" baseline="-25000">
                      <a:solidFill>
                        <a:srgbClr val="010167"/>
                      </a:solidFill>
                      <a:latin typeface="黑体"/>
                      <a:ea typeface="黑体"/>
                    </a:rPr>
                    <a:t>2</a:t>
                  </a:r>
                  <a:r>
                    <a:rPr b="1" lang="en-US" sz="2400" spc="-1" strike="noStrike">
                      <a:solidFill>
                        <a:srgbClr val="010167"/>
                      </a:solidFill>
                      <a:latin typeface="黑体"/>
                      <a:ea typeface="黑体"/>
                    </a:rPr>
                    <a:t>O      H</a:t>
                  </a:r>
                  <a:r>
                    <a:rPr b="1" lang="en-US" sz="2400" spc="-1" strike="noStrike" baseline="-25000">
                      <a:solidFill>
                        <a:srgbClr val="010167"/>
                      </a:solidFill>
                      <a:latin typeface="黑体"/>
                      <a:ea typeface="黑体"/>
                    </a:rPr>
                    <a:t>2</a:t>
                  </a:r>
                  <a:r>
                    <a:rPr b="1" lang="en-US" sz="2400" spc="-1" strike="noStrike">
                      <a:solidFill>
                        <a:srgbClr val="010167"/>
                      </a:solidFill>
                      <a:latin typeface="黑体"/>
                      <a:ea typeface="黑体"/>
                    </a:rPr>
                    <a:t>CO</a:t>
                  </a:r>
                  <a:r>
                    <a:rPr b="1" lang="en-US" sz="2400" spc="-1" strike="noStrike" baseline="-25000">
                      <a:solidFill>
                        <a:srgbClr val="010167"/>
                      </a:solidFill>
                      <a:latin typeface="黑体"/>
                      <a:ea typeface="黑体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7" name="Group 49"/>
                <p:cNvGrpSpPr/>
                <p:nvPr/>
              </p:nvGrpSpPr>
              <p:grpSpPr>
                <a:xfrm>
                  <a:off x="3222360" y="4543920"/>
                  <a:ext cx="482400" cy="87120"/>
                  <a:chOff x="3222360" y="4543920"/>
                  <a:chExt cx="482400" cy="87120"/>
                </a:xfrm>
              </p:grpSpPr>
              <p:sp>
                <p:nvSpPr>
                  <p:cNvPr id="138" name="Line 50"/>
                  <p:cNvSpPr/>
                  <p:nvPr/>
                </p:nvSpPr>
                <p:spPr>
                  <a:xfrm>
                    <a:off x="3236760" y="4543920"/>
                    <a:ext cx="468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Line 51"/>
                  <p:cNvSpPr/>
                  <p:nvPr/>
                </p:nvSpPr>
                <p:spPr>
                  <a:xfrm>
                    <a:off x="3222360" y="4631040"/>
                    <a:ext cx="468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0" name="Text Box 52"/>
              <p:cNvSpPr/>
              <p:nvPr/>
            </p:nvSpPr>
            <p:spPr>
              <a:xfrm>
                <a:off x="1561680" y="4893480"/>
                <a:ext cx="4054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10167"/>
                    </a:solidFill>
                    <a:latin typeface="黑体"/>
                    <a:ea typeface="黑体"/>
                  </a:rPr>
                  <a:t>CO</a:t>
                </a:r>
                <a:r>
                  <a:rPr b="1" lang="en-US" sz="2000" spc="-1" strike="noStrike" baseline="-25000">
                    <a:solidFill>
                      <a:srgbClr val="010167"/>
                    </a:solidFill>
                    <a:latin typeface="黑体"/>
                    <a:ea typeface="黑体"/>
                  </a:rPr>
                  <a:t>2</a:t>
                </a:r>
                <a:r>
                  <a:rPr b="1" lang="en-US" sz="2000" spc="-1" strike="noStrike">
                    <a:solidFill>
                      <a:srgbClr val="010167"/>
                    </a:solidFill>
                    <a:latin typeface="黑体"/>
                    <a:ea typeface="黑体"/>
                  </a:rPr>
                  <a:t> +H</a:t>
                </a:r>
                <a:r>
                  <a:rPr b="1" lang="en-US" sz="2000" spc="-1" strike="noStrike" baseline="-25000">
                    <a:solidFill>
                      <a:srgbClr val="010167"/>
                    </a:solidFill>
                    <a:latin typeface="黑体"/>
                    <a:ea typeface="黑体"/>
                  </a:rPr>
                  <a:t>2</a:t>
                </a:r>
                <a:r>
                  <a:rPr b="1" lang="en-US" sz="2000" spc="-1" strike="noStrike">
                    <a:solidFill>
                      <a:srgbClr val="010167"/>
                    </a:solidFill>
                    <a:latin typeface="黑体"/>
                    <a:ea typeface="黑体"/>
                  </a:rPr>
                  <a:t>O          </a:t>
                </a:r>
                <a:r>
                  <a:rPr b="1" lang="zh-CN" sz="2000" spc="-1" strike="noStrike">
                    <a:solidFill>
                      <a:srgbClr val="010167"/>
                    </a:solidFill>
                    <a:latin typeface="黑体"/>
                    <a:ea typeface="黑体"/>
                  </a:rPr>
                  <a:t>有机物</a:t>
                </a:r>
                <a:r>
                  <a:rPr b="1" lang="en-US" sz="2000" spc="-1" strike="noStrike">
                    <a:solidFill>
                      <a:srgbClr val="010167"/>
                    </a:solidFill>
                    <a:latin typeface="黑体"/>
                    <a:ea typeface="黑体"/>
                  </a:rPr>
                  <a:t>+O</a:t>
                </a:r>
                <a:r>
                  <a:rPr b="1" lang="en-US" sz="2000" spc="-1" strike="noStrike" baseline="-25000">
                    <a:solidFill>
                      <a:srgbClr val="010167"/>
                    </a:solidFill>
                    <a:latin typeface="黑体"/>
                    <a:ea typeface="黑体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组合 60"/>
            <p:cNvGrpSpPr/>
            <p:nvPr/>
          </p:nvGrpSpPr>
          <p:grpSpPr>
            <a:xfrm>
              <a:off x="2694600" y="4548600"/>
              <a:ext cx="1288800" cy="1015920"/>
              <a:chOff x="2694600" y="4548600"/>
              <a:chExt cx="1288800" cy="1015920"/>
            </a:xfrm>
          </p:grpSpPr>
          <p:sp>
            <p:nvSpPr>
              <p:cNvPr id="142" name="Text Box 45"/>
              <p:cNvSpPr/>
              <p:nvPr/>
            </p:nvSpPr>
            <p:spPr>
              <a:xfrm>
                <a:off x="2694600" y="4548600"/>
                <a:ext cx="128880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10167"/>
                    </a:solidFill>
                    <a:latin typeface="Arial"/>
                    <a:ea typeface="黑体"/>
                  </a:rPr>
                  <a:t>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10167"/>
                    </a:solidFill>
                    <a:latin typeface="Arial"/>
                    <a:ea typeface="黑体"/>
                  </a:rPr>
                  <a:t>叶绿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56"/>
              <p:cNvSpPr/>
              <p:nvPr/>
            </p:nvSpPr>
            <p:spPr>
              <a:xfrm>
                <a:off x="3026160" y="4959000"/>
                <a:ext cx="73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4" name="Text Box 57"/>
          <p:cNvSpPr/>
          <p:nvPr/>
        </p:nvSpPr>
        <p:spPr>
          <a:xfrm>
            <a:off x="5905440" y="1590840"/>
            <a:ext cx="206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有可燃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8"/>
          <p:cNvSpPr/>
          <p:nvPr/>
        </p:nvSpPr>
        <p:spPr>
          <a:xfrm>
            <a:off x="1368360" y="2651040"/>
            <a:ext cx="30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67"/>
                </a:solidFill>
                <a:latin typeface="黑体"/>
                <a:ea typeface="黑体"/>
              </a:rPr>
              <a:t>在一定条件下具有氧化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9"/>
          <p:cNvSpPr/>
          <p:nvPr/>
        </p:nvSpPr>
        <p:spPr>
          <a:xfrm>
            <a:off x="1406520" y="5675400"/>
            <a:ext cx="435600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10167"/>
                </a:solidFill>
                <a:latin typeface="Comic Sans MS"/>
              </a:rPr>
              <a:t>CO</a:t>
            </a:r>
            <a:r>
              <a:rPr b="1" lang="zh-CN" sz="1800" spc="-1" strike="noStrike" baseline="-25000">
                <a:solidFill>
                  <a:srgbClr val="010167"/>
                </a:solidFill>
                <a:latin typeface="Comic Sans MS"/>
              </a:rPr>
              <a:t>2</a:t>
            </a:r>
            <a:r>
              <a:rPr b="1" lang="zh-CN" sz="1800" spc="-1" strike="noStrike">
                <a:solidFill>
                  <a:srgbClr val="010167"/>
                </a:solidFill>
                <a:latin typeface="Comic Sans MS"/>
              </a:rPr>
              <a:t>+Ca(OH)</a:t>
            </a:r>
            <a:r>
              <a:rPr b="1" lang="zh-CN" sz="1800" spc="-1" strike="noStrike" baseline="-25000">
                <a:solidFill>
                  <a:srgbClr val="010167"/>
                </a:solidFill>
                <a:latin typeface="Comic Sans MS"/>
              </a:rPr>
              <a:t>2</a:t>
            </a:r>
            <a:r>
              <a:rPr b="1" lang="zh-CN" sz="1800" spc="-1" strike="noStrike">
                <a:solidFill>
                  <a:srgbClr val="010167"/>
                </a:solidFill>
                <a:latin typeface="Comic Sans MS"/>
              </a:rPr>
              <a:t>=CaCO</a:t>
            </a:r>
            <a:r>
              <a:rPr b="1" lang="zh-CN" sz="1800" spc="-1" strike="noStrike" baseline="-25000">
                <a:solidFill>
                  <a:srgbClr val="010167"/>
                </a:solidFill>
                <a:latin typeface="Comic Sans MS"/>
              </a:rPr>
              <a:t>3  </a:t>
            </a:r>
            <a:r>
              <a:rPr b="1" lang="zh-CN" sz="1800" spc="-1" strike="noStrike">
                <a:solidFill>
                  <a:srgbClr val="010167"/>
                </a:solidFill>
                <a:latin typeface="Comic Sans MS"/>
              </a:rPr>
              <a:t>+H</a:t>
            </a:r>
            <a:r>
              <a:rPr b="1" lang="zh-CN" sz="1800" spc="-1" strike="noStrike" baseline="-25000">
                <a:solidFill>
                  <a:srgbClr val="010167"/>
                </a:solidFill>
                <a:latin typeface="Comic Sans MS"/>
              </a:rPr>
              <a:t>2</a:t>
            </a:r>
            <a:r>
              <a:rPr b="1" lang="zh-CN" sz="1800" spc="-1" strike="noStrike">
                <a:solidFill>
                  <a:srgbClr val="010167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箭头 587"/>
          <p:cNvSpPr/>
          <p:nvPr/>
        </p:nvSpPr>
        <p:spPr>
          <a:xfrm>
            <a:off x="3886200" y="5562720"/>
            <a:ext cx="1440" cy="49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9"/>
          <p:cNvSpPr/>
          <p:nvPr/>
        </p:nvSpPr>
        <p:spPr>
          <a:xfrm>
            <a:off x="1433520" y="6094440"/>
            <a:ext cx="435600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167"/>
                </a:solidFill>
                <a:latin typeface="Comic Sans MS"/>
              </a:rPr>
              <a:t>CO</a:t>
            </a:r>
            <a:r>
              <a:rPr b="1" lang="en-US" sz="1800" spc="-1" strike="noStrike" baseline="-25000">
                <a:solidFill>
                  <a:srgbClr val="010167"/>
                </a:solidFill>
                <a:latin typeface="Comic Sans MS"/>
              </a:rPr>
              <a:t>2</a:t>
            </a:r>
            <a:r>
              <a:rPr b="1" lang="en-US" sz="1800" spc="-1" strike="noStrike">
                <a:solidFill>
                  <a:srgbClr val="010167"/>
                </a:solidFill>
                <a:latin typeface="Comic Sans MS"/>
              </a:rPr>
              <a:t>+2NaOH=Na</a:t>
            </a:r>
            <a:r>
              <a:rPr b="1" lang="en-US" sz="1800" spc="-1" strike="noStrike" baseline="-25000">
                <a:solidFill>
                  <a:srgbClr val="010167"/>
                </a:solidFill>
                <a:latin typeface="Comic Sans MS"/>
              </a:rPr>
              <a:t>2</a:t>
            </a:r>
            <a:r>
              <a:rPr b="1" lang="en-US" sz="1800" spc="-1" strike="noStrike">
                <a:solidFill>
                  <a:srgbClr val="010167"/>
                </a:solidFill>
                <a:latin typeface="Comic Sans MS"/>
              </a:rPr>
              <a:t>CO</a:t>
            </a:r>
            <a:r>
              <a:rPr b="1" lang="en-US" sz="1800" spc="-1" strike="noStrike" baseline="-25000">
                <a:solidFill>
                  <a:srgbClr val="010167"/>
                </a:solidFill>
                <a:latin typeface="Comic Sans MS"/>
              </a:rPr>
              <a:t>3  </a:t>
            </a:r>
            <a:r>
              <a:rPr b="1" lang="en-US" sz="1800" spc="-1" strike="noStrike">
                <a:solidFill>
                  <a:srgbClr val="010167"/>
                </a:solidFill>
                <a:latin typeface="Comic Sans MS"/>
              </a:rPr>
              <a:t>+H</a:t>
            </a:r>
            <a:r>
              <a:rPr b="1" lang="en-US" sz="1800" spc="-1" strike="noStrike" baseline="-25000">
                <a:solidFill>
                  <a:srgbClr val="010167"/>
                </a:solidFill>
                <a:latin typeface="Comic Sans MS"/>
              </a:rPr>
              <a:t>2</a:t>
            </a:r>
            <a:r>
              <a:rPr b="1" lang="en-US" sz="1800" spc="-1" strike="noStrike">
                <a:solidFill>
                  <a:srgbClr val="010167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06280" y="1015920"/>
            <a:ext cx="5400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二氧化碳的性质与用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69920" y="1746360"/>
          <a:ext cx="8578800" cy="4970520"/>
        </p:xfrm>
        <a:graphic>
          <a:graphicData uri="http://schemas.openxmlformats.org/drawingml/2006/table">
            <a:tbl>
              <a:tblPr/>
              <a:tblGrid>
                <a:gridCol w="5219640"/>
                <a:gridCol w="3359160"/>
              </a:tblGrid>
              <a:tr h="139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黑体"/>
                        </a:rPr>
                        <a:t>性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黑体"/>
                        </a:rPr>
                        <a:t>可溶于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黑体"/>
                        </a:rPr>
                        <a:t>用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黑体"/>
                        </a:rPr>
                        <a:t>不能燃烧也不能支持一般可燃物的燃烧，密度比空气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黑体"/>
                        </a:rPr>
                        <a:t>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黑体"/>
                        </a:rPr>
                        <a:t>能够参与光合作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黑体"/>
                        </a:rPr>
                        <a:t>干冰升华吸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黑体"/>
                        </a:rPr>
                        <a:t>能与别的一些物质发生化学反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1" name="Line 23"/>
          <p:cNvSpPr/>
          <p:nvPr/>
        </p:nvSpPr>
        <p:spPr>
          <a:xfrm>
            <a:off x="179280" y="2421000"/>
            <a:ext cx="856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4"/>
          <p:cNvSpPr/>
          <p:nvPr/>
        </p:nvSpPr>
        <p:spPr>
          <a:xfrm>
            <a:off x="206280" y="208080"/>
            <a:ext cx="58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、二氧化碳和一氧化碳的用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5"/>
          <p:cNvSpPr/>
          <p:nvPr/>
        </p:nvSpPr>
        <p:spPr>
          <a:xfrm>
            <a:off x="5568840" y="2421000"/>
            <a:ext cx="31798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制汽水、碳酸饮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6"/>
          <p:cNvSpPr/>
          <p:nvPr/>
        </p:nvSpPr>
        <p:spPr>
          <a:xfrm>
            <a:off x="5781600" y="3203640"/>
            <a:ext cx="31798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灭火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7"/>
          <p:cNvSpPr/>
          <p:nvPr/>
        </p:nvSpPr>
        <p:spPr>
          <a:xfrm>
            <a:off x="5365800" y="4125960"/>
            <a:ext cx="33829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温室气体肥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8"/>
          <p:cNvSpPr/>
          <p:nvPr/>
        </p:nvSpPr>
        <p:spPr>
          <a:xfrm>
            <a:off x="5568840" y="4941720"/>
            <a:ext cx="31798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制冷剂、贮藏食物人工降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9"/>
          <p:cNvSpPr/>
          <p:nvPr/>
        </p:nvSpPr>
        <p:spPr>
          <a:xfrm>
            <a:off x="5003640" y="5869080"/>
            <a:ext cx="31798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化工原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组合 30"/>
          <p:cNvGrpSpPr/>
          <p:nvPr/>
        </p:nvGrpSpPr>
        <p:grpSpPr>
          <a:xfrm>
            <a:off x="963720" y="3808440"/>
            <a:ext cx="7089840" cy="875880"/>
            <a:chOff x="963720" y="3808440"/>
            <a:chExt cx="7089840" cy="875880"/>
          </a:xfrm>
        </p:grpSpPr>
        <p:sp>
          <p:nvSpPr>
            <p:cNvPr id="159" name="Text Box 3"/>
            <p:cNvSpPr/>
            <p:nvPr/>
          </p:nvSpPr>
          <p:spPr>
            <a:xfrm>
              <a:off x="1317960" y="4037040"/>
              <a:ext cx="1329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81f1a"/>
                  </a:solidFill>
                  <a:latin typeface="Comic Sans MS"/>
                </a:rPr>
                <a:t>CO</a:t>
              </a:r>
              <a:r>
                <a:rPr b="0" lang="en-US" sz="3600" spc="-1" strike="noStrike">
                  <a:solidFill>
                    <a:srgbClr val="f81f1a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4"/>
            <p:cNvSpPr/>
            <p:nvPr/>
          </p:nvSpPr>
          <p:spPr>
            <a:xfrm>
              <a:off x="2470320" y="4037040"/>
              <a:ext cx="230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81f1a"/>
                  </a:solidFill>
                  <a:latin typeface="Comic Sans MS"/>
                </a:rPr>
                <a:t>Fe</a:t>
              </a:r>
              <a:r>
                <a:rPr b="1" lang="en-US" sz="2000" spc="-1" strike="noStrike">
                  <a:solidFill>
                    <a:srgbClr val="f81f1a"/>
                  </a:solidFill>
                  <a:latin typeface="Comic Sans MS"/>
                </a:rPr>
                <a:t>2</a:t>
              </a:r>
              <a:r>
                <a:rPr b="1" lang="en-US" sz="3600" spc="-1" strike="noStrike">
                  <a:solidFill>
                    <a:srgbClr val="f81f1a"/>
                  </a:solidFill>
                  <a:latin typeface="Comic Sans MS"/>
                </a:rPr>
                <a:t>O</a:t>
              </a:r>
              <a:r>
                <a:rPr b="1" lang="en-US" sz="2000" spc="-1" strike="noStrike">
                  <a:solidFill>
                    <a:srgbClr val="f81f1a"/>
                  </a:solidFill>
                  <a:latin typeface="Comic Sans MS"/>
                </a:rPr>
                <a:t>3</a:t>
              </a:r>
              <a:r>
                <a:rPr b="0" lang="en-US" sz="3600" spc="-1" strike="noStrike">
                  <a:solidFill>
                    <a:srgbClr val="f81f1a"/>
                  </a:solidFill>
                  <a:latin typeface="Comic Sans MS"/>
                </a:rPr>
                <a:t>  =</a:t>
              </a:r>
              <a:r>
                <a:rPr b="0" lang="en-US" sz="1800" spc="-1" strike="noStrike">
                  <a:solidFill>
                    <a:srgbClr val="f81f1a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5"/>
            <p:cNvSpPr/>
            <p:nvPr/>
          </p:nvSpPr>
          <p:spPr>
            <a:xfrm>
              <a:off x="5217480" y="4037040"/>
              <a:ext cx="124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81f1a"/>
                  </a:solidFill>
                  <a:latin typeface="Comic Sans MS"/>
                </a:rPr>
                <a:t>Fe</a:t>
              </a:r>
              <a:r>
                <a:rPr b="0" lang="en-US" sz="3600" spc="-1" strike="noStrike">
                  <a:solidFill>
                    <a:srgbClr val="f81f1a"/>
                  </a:solidFill>
                  <a:latin typeface="Comic Sans MS"/>
                </a:rPr>
                <a:t> 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6"/>
            <p:cNvSpPr/>
            <p:nvPr/>
          </p:nvSpPr>
          <p:spPr>
            <a:xfrm>
              <a:off x="5128920" y="3960720"/>
              <a:ext cx="1436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7"/>
            <p:cNvSpPr/>
            <p:nvPr/>
          </p:nvSpPr>
          <p:spPr>
            <a:xfrm>
              <a:off x="6813000" y="4037040"/>
              <a:ext cx="124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81f1a"/>
                  </a:solidFill>
                  <a:latin typeface="Comic Sans MS"/>
                </a:rPr>
                <a:t>CO</a:t>
              </a:r>
              <a:r>
                <a:rPr b="1" lang="en-US" sz="2000" spc="-1" strike="noStrike">
                  <a:solidFill>
                    <a:srgbClr val="f81f1a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8"/>
            <p:cNvSpPr/>
            <p:nvPr/>
          </p:nvSpPr>
          <p:spPr>
            <a:xfrm>
              <a:off x="963720" y="40370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66"/>
                  </a:solidFill>
                  <a:latin typeface="Comic Sans MS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9"/>
            <p:cNvSpPr/>
            <p:nvPr/>
          </p:nvSpPr>
          <p:spPr>
            <a:xfrm>
              <a:off x="4685760" y="4037040"/>
              <a:ext cx="885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81f1a"/>
                  </a:solidFill>
                  <a:latin typeface="Comic Sans MS"/>
                </a:rPr>
                <a:t> </a:t>
              </a:r>
              <a:r>
                <a:rPr b="0" lang="en-US" sz="3600" spc="-1" strike="noStrike">
                  <a:solidFill>
                    <a:srgbClr val="000066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0"/>
            <p:cNvSpPr/>
            <p:nvPr/>
          </p:nvSpPr>
          <p:spPr>
            <a:xfrm flipH="1">
              <a:off x="6281280" y="4189320"/>
              <a:ext cx="213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1"/>
            <p:cNvSpPr/>
            <p:nvPr/>
          </p:nvSpPr>
          <p:spPr>
            <a:xfrm>
              <a:off x="6458400" y="40417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66"/>
                  </a:solidFill>
                  <a:latin typeface="Comic Sans MS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3"/>
            <p:cNvSpPr/>
            <p:nvPr/>
          </p:nvSpPr>
          <p:spPr>
            <a:xfrm>
              <a:off x="3799440" y="3808440"/>
              <a:ext cx="21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66"/>
                  </a:solidFill>
                  <a:latin typeface="Tahoma"/>
                </a:rPr>
                <a:t>高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16"/>
          <p:cNvSpPr/>
          <p:nvPr/>
        </p:nvSpPr>
        <p:spPr>
          <a:xfrm>
            <a:off x="647640" y="2579760"/>
            <a:ext cx="683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请你写出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CO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还原氧化铁的化学方程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7"/>
          <p:cNvSpPr/>
          <p:nvPr/>
        </p:nvSpPr>
        <p:spPr>
          <a:xfrm>
            <a:off x="144360" y="1947960"/>
            <a:ext cx="494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 可冶炼金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8"/>
          <p:cNvSpPr/>
          <p:nvPr/>
        </p:nvSpPr>
        <p:spPr>
          <a:xfrm>
            <a:off x="198360" y="828720"/>
            <a:ext cx="446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气体的用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0"/>
          <p:cNvSpPr/>
          <p:nvPr/>
        </p:nvSpPr>
        <p:spPr>
          <a:xfrm>
            <a:off x="0" y="1440000"/>
            <a:ext cx="38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）作燃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6"/>
          <p:cNvSpPr/>
          <p:nvPr/>
        </p:nvSpPr>
        <p:spPr>
          <a:xfrm>
            <a:off x="647640" y="2955960"/>
            <a:ext cx="776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请你写出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CO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还原四氧化三铁的化学方程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组合 29"/>
          <p:cNvGrpSpPr/>
          <p:nvPr/>
        </p:nvGrpSpPr>
        <p:grpSpPr>
          <a:xfrm>
            <a:off x="1033560" y="4827600"/>
            <a:ext cx="7089840" cy="875880"/>
            <a:chOff x="1033560" y="4827600"/>
            <a:chExt cx="7089840" cy="875880"/>
          </a:xfrm>
        </p:grpSpPr>
        <p:sp>
          <p:nvSpPr>
            <p:cNvPr id="175" name="Text Box 3"/>
            <p:cNvSpPr/>
            <p:nvPr/>
          </p:nvSpPr>
          <p:spPr>
            <a:xfrm>
              <a:off x="1387800" y="5056200"/>
              <a:ext cx="1329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81f1a"/>
                  </a:solidFill>
                  <a:latin typeface="Comic Sans MS"/>
                </a:rPr>
                <a:t>CO</a:t>
              </a:r>
              <a:r>
                <a:rPr b="0" lang="en-US" sz="3600" spc="-1" strike="noStrike">
                  <a:solidFill>
                    <a:srgbClr val="f81f1a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4"/>
            <p:cNvSpPr/>
            <p:nvPr/>
          </p:nvSpPr>
          <p:spPr>
            <a:xfrm>
              <a:off x="2540160" y="5056200"/>
              <a:ext cx="230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81f1a"/>
                  </a:solidFill>
                  <a:latin typeface="Comic Sans MS"/>
                </a:rPr>
                <a:t>Fe</a:t>
              </a:r>
              <a:r>
                <a:rPr b="1" lang="en-US" sz="2000" spc="-1" strike="noStrike">
                  <a:solidFill>
                    <a:srgbClr val="f81f1a"/>
                  </a:solidFill>
                  <a:latin typeface="Comic Sans MS"/>
                </a:rPr>
                <a:t>3</a:t>
              </a:r>
              <a:r>
                <a:rPr b="1" lang="en-US" sz="3600" spc="-1" strike="noStrike">
                  <a:solidFill>
                    <a:srgbClr val="f81f1a"/>
                  </a:solidFill>
                  <a:latin typeface="Comic Sans MS"/>
                </a:rPr>
                <a:t>O</a:t>
              </a:r>
              <a:r>
                <a:rPr b="1" lang="en-US" sz="2000" spc="-1" strike="noStrike">
                  <a:solidFill>
                    <a:srgbClr val="f81f1a"/>
                  </a:solidFill>
                  <a:latin typeface="Comic Sans MS"/>
                </a:rPr>
                <a:t>4</a:t>
              </a:r>
              <a:r>
                <a:rPr b="0" lang="en-US" sz="3600" spc="-1" strike="noStrike">
                  <a:solidFill>
                    <a:srgbClr val="f81f1a"/>
                  </a:solidFill>
                  <a:latin typeface="Comic Sans MS"/>
                </a:rPr>
                <a:t>  =</a:t>
              </a:r>
              <a:r>
                <a:rPr b="0" lang="en-US" sz="1800" spc="-1" strike="noStrike">
                  <a:solidFill>
                    <a:srgbClr val="f81f1a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"/>
            <p:cNvSpPr/>
            <p:nvPr/>
          </p:nvSpPr>
          <p:spPr>
            <a:xfrm>
              <a:off x="5287320" y="5056200"/>
              <a:ext cx="124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81f1a"/>
                  </a:solidFill>
                  <a:latin typeface="Comic Sans MS"/>
                </a:rPr>
                <a:t>Fe</a:t>
              </a:r>
              <a:r>
                <a:rPr b="0" lang="en-US" sz="3600" spc="-1" strike="noStrike">
                  <a:solidFill>
                    <a:srgbClr val="f81f1a"/>
                  </a:solidFill>
                  <a:latin typeface="Comic Sans MS"/>
                </a:rPr>
                <a:t> 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6"/>
            <p:cNvSpPr/>
            <p:nvPr/>
          </p:nvSpPr>
          <p:spPr>
            <a:xfrm>
              <a:off x="5198760" y="4979880"/>
              <a:ext cx="1436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6882840" y="5056200"/>
              <a:ext cx="124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81f1a"/>
                  </a:solidFill>
                  <a:latin typeface="Comic Sans MS"/>
                </a:rPr>
                <a:t>CO</a:t>
              </a:r>
              <a:r>
                <a:rPr b="1" lang="en-US" sz="2000" spc="-1" strike="noStrike">
                  <a:solidFill>
                    <a:srgbClr val="f81f1a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1033560" y="50562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66"/>
                  </a:solidFill>
                  <a:latin typeface="Comic Sans MS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9"/>
            <p:cNvSpPr/>
            <p:nvPr/>
          </p:nvSpPr>
          <p:spPr>
            <a:xfrm>
              <a:off x="4755600" y="5056200"/>
              <a:ext cx="885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81f1a"/>
                  </a:solidFill>
                  <a:latin typeface="Comic Sans MS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0"/>
            <p:cNvSpPr/>
            <p:nvPr/>
          </p:nvSpPr>
          <p:spPr>
            <a:xfrm flipH="1">
              <a:off x="6351120" y="5208480"/>
              <a:ext cx="213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1"/>
            <p:cNvSpPr/>
            <p:nvPr/>
          </p:nvSpPr>
          <p:spPr>
            <a:xfrm>
              <a:off x="6528240" y="50608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66"/>
                  </a:solidFill>
                  <a:latin typeface="Comic Sans MS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3"/>
            <p:cNvSpPr/>
            <p:nvPr/>
          </p:nvSpPr>
          <p:spPr>
            <a:xfrm>
              <a:off x="3869280" y="4827600"/>
              <a:ext cx="21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66"/>
                  </a:solidFill>
                  <a:latin typeface="Tahoma"/>
                </a:rPr>
                <a:t>高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Text Box 24"/>
          <p:cNvSpPr/>
          <p:nvPr/>
        </p:nvSpPr>
        <p:spPr>
          <a:xfrm>
            <a:off x="206280" y="208080"/>
            <a:ext cx="58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、二氧化碳和一氧化碳的用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cp:keywords/>
  <dc:language>en-US</dc:language>
  <cp:lastModifiedBy>Administrator</cp:lastModifiedBy>
  <dcterms:modified xsi:type="dcterms:W3CDTF">2015-12-14T01:01:17Z</dcterms:modified>
  <cp:revision>9</cp:revision>
  <dc:subject>  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